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CDC8B7-BB70-4A8E-8FFB-E712FFDFBC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CF3ABE-C846-4D41-AA29-6059125AB6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D8D998-33DD-4799-96C5-C78BFA81A9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B58EA2-49C8-47FD-8621-C2185C9ADE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2C348BC-A129-4262-B131-4C4497DE7653}"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7081AFB-43D1-4BF3-B08D-66DA1209991C}"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B3A7A58-F508-433E-86BD-0F90E551A217}"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F4C149F-13FA-4748-BF08-4D69B9FB9A73}"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485EAD8-1C7B-4BA1-BC4C-FA41B109D4D4}"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D4E9550-1E43-4325-9EAC-7D209169638B}"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611D958-8C78-4021-A63D-78851A11D061}"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271382-DB45-46FF-83A1-4AECF5511A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A3D15FD-9FA4-4BCA-9244-FC178283EEA3}"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505DF8E-02B9-4587-A51D-C16681CD7884}"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E045A36-ADE0-41F6-8B4A-AB8D866372D0}"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FC42391-3DD5-493D-BAFF-3A2ED3473382}"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F74C06A-F285-465C-B6DE-0C3EB54D1747}"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8A7AB7-59A7-4FE8-A042-030B506535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C342E6-A87C-4DF1-A945-E603F3FB27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F9B0AD-CBA1-400A-8771-B8626DD5D8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8C9BB1-6756-461D-9B0F-BA7D7E0471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1DFC40-26E5-45CD-BE49-4BBA6CECEF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9E9A29-2C58-45D5-B356-EE181B8A05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5A5412-DA46-4551-8B84-9F67478C5D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9F36F7-B4F3-48D3-8AFE-C4DB816F6F1A}" type="slidenum">
              <a:rPr b="0" lang="fr-FR"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Freeform 4"/>
          <p:cNvSpPr/>
          <p:nvPr/>
        </p:nvSpPr>
        <p:spPr>
          <a:xfrm>
            <a:off x="285840" y="2803680"/>
            <a:ext cx="1440" cy="3035160"/>
          </a:xfrm>
          <a:prstGeom prst="pie">
            <a:avLst/>
          </a:prstGeom>
          <a:solidFill>
            <a:srgbClr val="6bba2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3"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4" name="PlaceHolder 3"/>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5" name="PlaceHolder 4"/>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011C0E-64F5-434D-9790-CDAE59098451}" type="slidenum">
              <a:rPr b="0" lang="fr-FR" sz="1400" spc="-1" strike="noStrike">
                <a:solidFill>
                  <a:srgbClr val="ffffff"/>
                </a:solidFill>
                <a:latin typeface="Arial"/>
              </a:rPr>
              <a:t>&lt;number&gt;</a:t>
            </a:fld>
            <a:endParaRPr b="0" lang="en-US" sz="1400" spc="-1" strike="noStrike">
              <a:solidFill>
                <a:srgbClr val="000000"/>
              </a:solidFill>
              <a:latin typeface="Times New Roman"/>
            </a:endParaRPr>
          </a:p>
        </p:txBody>
      </p:sp>
      <p:sp>
        <p:nvSpPr>
          <p:cNvPr id="46" name="PlaceHolder 5"/>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ubTitle"/>
          </p:nvPr>
        </p:nvSpPr>
        <p:spPr>
          <a:xfrm>
            <a:off x="468360" y="692280"/>
            <a:ext cx="8136000" cy="403200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ahoma"/>
              </a:rPr>
              <a:t> </a:t>
            </a:r>
            <a:endParaRPr b="0" lang="en-US" sz="3200" spc="-1" strike="noStrike">
              <a:solidFill>
                <a:srgbClr val="ffffff"/>
              </a:solidFill>
              <a:latin typeface="Tahoma"/>
            </a:endParaRPr>
          </a:p>
          <a:p>
            <a:pPr algn="ctr">
              <a:spcBef>
                <a:spcPts val="29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700" spc="-1" strike="noStrike">
                <a:solidFill>
                  <a:srgbClr val="ffffff"/>
                </a:solidFill>
                <a:latin typeface="Tahoma"/>
              </a:rPr>
              <a:t>MAPINFO</a:t>
            </a:r>
            <a:endParaRPr b="0" lang="en-US" sz="117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p:nvPr>
        </p:nvSpPr>
        <p:spPr>
          <a:xfrm>
            <a:off x="457200" y="549360"/>
            <a:ext cx="8229600" cy="597528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u="sng">
                <a:solidFill>
                  <a:srgbClr val="ffffff"/>
                </a:solidFill>
                <a:uFillTx/>
                <a:latin typeface="Tahoma"/>
              </a:rPr>
              <a:t>*Connaitre et modifier le système de protection d’une table:</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Le système de protection d’une couche et très important. Vous devez, pour travailler proprement sur vos couches, œuvrer dans un système de protection unique dans la mesure du possible. Ceci évité les erreurs l’ors de calculs d’analyses spatiale, ne serais ce que pour calculer des distances, ou pour croiser des couches.</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Le système de projection est a modifier au minimum, car les passages multiples d’un système a un autre génèrent des déformations sur les entités.</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Pour modifier le système de protection d’une couche, il faut enregistrer la couche sous un autre nom, dans la fenêtre d’enregistrement, appuyer sur le bouton protection pour spécifier  une catégorie et un système de projection différents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Picture 5" descr="Sans titre12"/>
          <p:cNvPicPr/>
          <p:nvPr/>
        </p:nvPicPr>
        <p:blipFill>
          <a:blip r:embed="rId1"/>
          <a:stretch/>
        </p:blipFill>
        <p:spPr>
          <a:xfrm>
            <a:off x="971640" y="349200"/>
            <a:ext cx="7488000" cy="5743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p:nvPr>
        </p:nvSpPr>
        <p:spPr>
          <a:xfrm>
            <a:off x="457200" y="620640"/>
            <a:ext cx="8229600" cy="5399280"/>
          </a:xfrm>
          <a:prstGeom prst="rect">
            <a:avLst/>
          </a:prstGeom>
          <a:noFill/>
          <a:ln w="0">
            <a:noFill/>
          </a:ln>
        </p:spPr>
        <p:txBody>
          <a:bodyPr anchor="t">
            <a:normAutofit fontScale="96000"/>
          </a:bodyPr>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u="sng">
                <a:solidFill>
                  <a:srgbClr val="ffffff"/>
                </a:solidFill>
                <a:uFillTx/>
                <a:latin typeface="Tahoma"/>
              </a:rPr>
              <a:t>Structure des tables:</a:t>
            </a:r>
            <a:endParaRPr b="0" lang="en-US" sz="3200" spc="-1" strike="noStrike">
              <a:solidFill>
                <a:srgbClr val="ffffff"/>
              </a:solidFill>
              <a:latin typeface="Tahoma"/>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ahoma"/>
              </a:rPr>
              <a:t> </a:t>
            </a:r>
            <a:r>
              <a:rPr b="0" lang="fr-FR" sz="3200" spc="-1" strike="noStrike">
                <a:solidFill>
                  <a:srgbClr val="ffffff"/>
                </a:solidFill>
                <a:latin typeface="Tahoma"/>
              </a:rPr>
              <a:t>La création d’une couche se fait en trois temps </a:t>
            </a:r>
            <a:endParaRPr b="0" lang="en-US" sz="3200" spc="-1" strike="noStrike">
              <a:solidFill>
                <a:srgbClr val="ffffff"/>
              </a:solidFill>
              <a:latin typeface="Tahoma"/>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ahoma"/>
              </a:rPr>
              <a:t>Il faut d’abord créer la structure de la couche et bien réfléchir aux informations qu’elle doit contenir. Il faut ensuite créer les entités graphiques. Enfin, il faut remplir la table attributaire en respectant  bien le lien avec la donnée géographique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p:nvPr>
        </p:nvSpPr>
        <p:spPr>
          <a:xfrm>
            <a:off x="457200" y="549360"/>
            <a:ext cx="8229600" cy="547056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u="sng">
                <a:solidFill>
                  <a:srgbClr val="ffffff"/>
                </a:solidFill>
                <a:uFillTx/>
                <a:latin typeface="Tahoma"/>
              </a:rPr>
              <a:t>*Création d’une table:</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La création d’une table doit être précédée d’une étape de réflexion sur la modélisation du phénomène à intégrer dans le SIG. Il s’agit d’un aspect fondamental qui permettra une utilisation rationnelle et aisée du SIG. Une étape à ne pas négliger !</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Chaque objet géographique stocké dans une table MAPINFO est doté d’un certain nombre d’attributs, qui se définies lors de la création, ou de la modification, de la structure de la table.</a:t>
            </a:r>
            <a:endParaRPr b="0" lang="en-US" sz="24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MAPINFO gère différents types d’attributs : caractère, entier, entier court, flottant, virgule fixe, date, logique</a:t>
            </a:r>
            <a:r>
              <a:rPr b="0" lang="fr-FR"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Picture 4" descr="Sans titre14"/>
          <p:cNvPicPr/>
          <p:nvPr/>
        </p:nvPicPr>
        <p:blipFill>
          <a:blip r:embed="rId1"/>
          <a:stretch/>
        </p:blipFill>
        <p:spPr>
          <a:xfrm>
            <a:off x="900000" y="620640"/>
            <a:ext cx="7488360" cy="5400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p:nvPr>
        </p:nvSpPr>
        <p:spPr>
          <a:xfrm>
            <a:off x="457200" y="691920"/>
            <a:ext cx="8229600" cy="53276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u="sng">
                <a:solidFill>
                  <a:srgbClr val="ffffff"/>
                </a:solidFill>
                <a:uFillTx/>
                <a:latin typeface="Tahoma"/>
              </a:rPr>
              <a:t>*Modification</a:t>
            </a:r>
            <a:r>
              <a:rPr b="1" lang="fr-FR" sz="3200" spc="-1" strike="noStrike" u="sng">
                <a:solidFill>
                  <a:srgbClr val="ffffff"/>
                </a:solidFill>
                <a:uFillTx/>
                <a:latin typeface="Tahoma"/>
              </a:rPr>
              <a:t> </a:t>
            </a:r>
            <a:r>
              <a:rPr b="0" lang="fr-FR" sz="3200" spc="-1" strike="noStrike" u="sng">
                <a:solidFill>
                  <a:srgbClr val="ffffff"/>
                </a:solidFill>
                <a:uFillTx/>
                <a:latin typeface="Tahoma"/>
              </a:rPr>
              <a:t>de la structure d’une table:</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ahoma"/>
              </a:rPr>
              <a:t>La modification de la structure de la table est a éviter dans la mesure du possible, car l’ajout, ou le retrait de champs peut perturber la table. Il est donc important de vérifier les données attributaire âpres ce type d’intervention.</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4" descr="Sans titre15"/>
          <p:cNvPicPr/>
          <p:nvPr/>
        </p:nvPicPr>
        <p:blipFill>
          <a:blip r:embed="rId1"/>
          <a:stretch/>
        </p:blipFill>
        <p:spPr>
          <a:xfrm>
            <a:off x="1042920" y="836640"/>
            <a:ext cx="6842160" cy="48243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p:nvPr>
        </p:nvSpPr>
        <p:spPr>
          <a:xfrm>
            <a:off x="457200" y="764640"/>
            <a:ext cx="8229600" cy="52549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u="sng">
                <a:solidFill>
                  <a:srgbClr val="ffffff"/>
                </a:solidFill>
                <a:uFillTx/>
                <a:latin typeface="Tahoma"/>
              </a:rPr>
              <a:t>5-Analyse spatiale:</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L’analyse spatiale participe au traitement même des données à partir de requêtes spatiales bien définies ou d’actions qui permettent de répondre à un questionnement précis.</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Une requête est une opération qui consiste à interroger une partie de la table de données(ou table attributaire).MAPINFO facilite le recours aux requêtes SQL (structured query langage) en proposant une interface graphique pour interroger la base de données. Une requête SQL produit une table qui va contenir la ou les réponses.</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Les requêtes peuvent porter aussi bien sûr des données attributaires que sur des objets géographiques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p:nvPr>
        </p:nvSpPr>
        <p:spPr>
          <a:xfrm>
            <a:off x="457200" y="1413000"/>
            <a:ext cx="8229600" cy="2952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u="sng">
                <a:solidFill>
                  <a:srgbClr val="ffffff"/>
                </a:solidFill>
                <a:uFillTx/>
                <a:latin typeface="Tahoma"/>
              </a:rPr>
              <a:t>*Requête attributaire simple:</a:t>
            </a:r>
            <a:endParaRPr b="0" lang="en-US" sz="32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La requête attributaire simple se fait sur une seule couche et sur un ou plusieurs attributs de cette couche.</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 name="Picture 4" descr="Sans titre21"/>
          <p:cNvPicPr/>
          <p:nvPr/>
        </p:nvPicPr>
        <p:blipFill>
          <a:blip r:embed="rId1"/>
          <a:stretch/>
        </p:blipFill>
        <p:spPr>
          <a:xfrm>
            <a:off x="826920" y="476280"/>
            <a:ext cx="7490160" cy="5545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p:nvPr>
        </p:nvSpPr>
        <p:spPr>
          <a:xfrm>
            <a:off x="457200" y="404640"/>
            <a:ext cx="8229600" cy="561528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u="sng">
                <a:solidFill>
                  <a:srgbClr val="ffffff"/>
                </a:solidFill>
                <a:uFillTx/>
                <a:latin typeface="Tahoma"/>
              </a:rPr>
              <a:t>Plan de travail:</a:t>
            </a:r>
            <a:endParaRPr b="0" lang="en-US" sz="28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       </a:t>
            </a:r>
            <a:r>
              <a:rPr b="0" lang="fr-FR" sz="2400" spc="-1" strike="noStrike">
                <a:solidFill>
                  <a:srgbClr val="ffffff"/>
                </a:solidFill>
                <a:latin typeface="Tahoma"/>
              </a:rPr>
              <a:t>Introduction</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1-historique de MAPINFO</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2-fonctions de MAPINFO</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3-présentation du logiciel </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4-gestion et structure des tables </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5-analyse spatial</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6-analyse thématique</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7-intégration des données externes</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8-avenages et inconvénients</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     </a:t>
            </a:r>
            <a:r>
              <a:rPr b="0" lang="fr-FR" sz="2400" spc="-1" strike="noStrike">
                <a:solidFill>
                  <a:srgbClr val="ffffff"/>
                </a:solidFill>
                <a:latin typeface="Tahoma"/>
              </a:rPr>
              <a:t>conclusion</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p:nvPr>
        </p:nvSpPr>
        <p:spPr>
          <a:xfrm>
            <a:off x="457200" y="620640"/>
            <a:ext cx="8229600" cy="53992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u="sng">
                <a:solidFill>
                  <a:srgbClr val="ffffff"/>
                </a:solidFill>
                <a:uFillTx/>
                <a:latin typeface="Tahoma"/>
              </a:rPr>
              <a:t>*Requête</a:t>
            </a:r>
            <a:r>
              <a:rPr b="1" lang="fr-FR" sz="3200" spc="-1" strike="noStrike" u="sng">
                <a:solidFill>
                  <a:srgbClr val="ffffff"/>
                </a:solidFill>
                <a:uFillTx/>
                <a:latin typeface="Tahoma"/>
              </a:rPr>
              <a:t> </a:t>
            </a:r>
            <a:r>
              <a:rPr b="0" lang="fr-FR" sz="3200" spc="-1" strike="noStrike" u="sng">
                <a:solidFill>
                  <a:srgbClr val="ffffff"/>
                </a:solidFill>
                <a:uFillTx/>
                <a:latin typeface="Tahoma"/>
              </a:rPr>
              <a:t>attributaire complexe:</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ahoma"/>
              </a:rPr>
              <a:t>La requête attributaire complexe autorise une sélection sur plusieurs couches et sur un ou plusieurs attributs de ces couches. Sous MAPINFO, cette requête est appelée requête SQL.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 name="Picture 4" descr="Sans titre22"/>
          <p:cNvPicPr/>
          <p:nvPr/>
        </p:nvPicPr>
        <p:blipFill>
          <a:blip r:embed="rId1"/>
          <a:stretch/>
        </p:blipFill>
        <p:spPr>
          <a:xfrm>
            <a:off x="684360" y="620640"/>
            <a:ext cx="7704000" cy="53992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p:nvPr>
        </p:nvSpPr>
        <p:spPr>
          <a:xfrm>
            <a:off x="457200" y="764640"/>
            <a:ext cx="8229600" cy="5254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u="sng">
                <a:solidFill>
                  <a:srgbClr val="ffffff"/>
                </a:solidFill>
                <a:uFillTx/>
                <a:latin typeface="Tahoma"/>
              </a:rPr>
              <a:t>*Requête géographique</a:t>
            </a:r>
            <a:r>
              <a:rPr b="1" lang="fr-FR" sz="3200" spc="-1" strike="noStrike">
                <a:solidFill>
                  <a:srgbClr val="ffffff"/>
                </a:solidFill>
                <a:latin typeface="Tahoma"/>
              </a:rPr>
              <a:t>:</a:t>
            </a:r>
            <a:endParaRPr b="0" lang="en-US" sz="32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La requête géographique fonctionne a partir de la même fenêtre que la requête attributaire complexe, c’est requête SQL. Elle autorise aussi une sélection sur plusieurs couches et sur un ou plusieurs attributs de ces couche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p:nvPr>
        </p:nvSpPr>
        <p:spPr>
          <a:xfrm>
            <a:off x="457200" y="1052640"/>
            <a:ext cx="8229600" cy="49672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u="sng">
                <a:solidFill>
                  <a:srgbClr val="ffffff"/>
                </a:solidFill>
                <a:uFillTx/>
                <a:latin typeface="Tahoma"/>
              </a:rPr>
              <a:t>6-Analyse thématique:</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ahoma"/>
              </a:rPr>
              <a:t>L’analyse thématique met en évidence un ou plusieurs phénomènes de la carte et participe grandement au rendu final d’une carte. Elle joue un rôle dans la perception de la carte par vos interlocuteurs. Il est donc indispensable de prendre du recul pour voir si le rendu de l’information est fidele a ce que vous vouliez mettre en avant. Il est aussi dispensable que votre information soit claire et non noyée dans une masse d’informations inutiles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p:nvPr>
        </p:nvSpPr>
        <p:spPr>
          <a:xfrm>
            <a:off x="457200" y="1905120"/>
            <a:ext cx="82296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u="sng">
                <a:solidFill>
                  <a:srgbClr val="ffffff"/>
                </a:solidFill>
                <a:uFillTx/>
                <a:latin typeface="Tahoma"/>
              </a:rPr>
              <a:t>*Interface de l’analyse thématique:</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ahoma"/>
              </a:rPr>
              <a:t>L’analyse thématique a pour objectif principal de mettre en forme les données que vous voulez faire ressortir de la carte. L’analyse thématique répond aux règles principales de la sismologie graphique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Picture 4" descr="Sans titre27"/>
          <p:cNvPicPr/>
          <p:nvPr/>
        </p:nvPicPr>
        <p:blipFill>
          <a:blip r:embed="rId1"/>
          <a:stretch/>
        </p:blipFill>
        <p:spPr>
          <a:xfrm>
            <a:off x="684360" y="620640"/>
            <a:ext cx="7775280" cy="53992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p:nvPr>
        </p:nvSpPr>
        <p:spPr>
          <a:xfrm>
            <a:off x="457200" y="475920"/>
            <a:ext cx="8229600" cy="5543640"/>
          </a:xfrm>
          <a:prstGeom prst="rect">
            <a:avLst/>
          </a:prstGeom>
          <a:noFill/>
          <a:ln w="0">
            <a:noFill/>
          </a:ln>
        </p:spPr>
        <p:txBody>
          <a:bodyPr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u="sng">
                <a:solidFill>
                  <a:srgbClr val="ffffff"/>
                </a:solidFill>
                <a:uFillTx/>
                <a:latin typeface="Tahoma"/>
              </a:rPr>
              <a:t>*Les différents types d’analyses</a:t>
            </a:r>
            <a:r>
              <a:rPr b="1" lang="fr-FR" sz="2400" spc="-1" strike="noStrike">
                <a:solidFill>
                  <a:srgbClr val="ffffff"/>
                </a:solidFill>
                <a:latin typeface="Tahoma"/>
              </a:rPr>
              <a:t> :</a:t>
            </a:r>
            <a:endParaRPr b="0" lang="en-US" sz="2400" spc="-1" strike="noStrike">
              <a:solidFill>
                <a:srgbClr val="ffffff"/>
              </a:solidFill>
              <a:latin typeface="Tahoma"/>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Il existe (7)  types d’analyses selon la nature des variables et la représentation choisie pour les données :</a:t>
            </a:r>
            <a:endParaRPr b="0" lang="en-US" sz="2400" spc="-1" strike="noStrike">
              <a:solidFill>
                <a:srgbClr val="ffffff"/>
              </a:solidFill>
              <a:latin typeface="Tahoma"/>
            </a:endParaRPr>
          </a:p>
          <a:p>
            <a:pPr marL="339480" indent="-3394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Analyses par classes sur champ numérique contenant  des valeurs relatives (en %)</a:t>
            </a:r>
            <a:endParaRPr b="0" lang="en-US" sz="2400" spc="-1" strike="noStrike">
              <a:solidFill>
                <a:srgbClr val="ffffff"/>
              </a:solidFill>
              <a:latin typeface="Tahoma"/>
            </a:endParaRPr>
          </a:p>
          <a:p>
            <a:pPr marL="339480" indent="-3394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Analyses par histogrammes ou secteurs sur un ou plusieurs champs numériques </a:t>
            </a:r>
            <a:endParaRPr b="0" lang="en-US" sz="2400" spc="-1" strike="noStrike">
              <a:solidFill>
                <a:srgbClr val="ffffff"/>
              </a:solidFill>
              <a:latin typeface="Tahoma"/>
            </a:endParaRPr>
          </a:p>
          <a:p>
            <a:pPr marL="339480" indent="-3394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Analyses par symboles proportionnels sur un champ numérique contenant des quantités brutes</a:t>
            </a:r>
            <a:endParaRPr b="0" lang="en-US" sz="2400" spc="-1" strike="noStrike">
              <a:solidFill>
                <a:srgbClr val="ffffff"/>
              </a:solidFill>
              <a:latin typeface="Tahoma"/>
            </a:endParaRPr>
          </a:p>
          <a:p>
            <a:pPr marL="339480" indent="-3394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Analyses par densité de points sur un champ numérique contenant des quantités brutes</a:t>
            </a:r>
            <a:endParaRPr b="0" lang="en-US" sz="2400" spc="-1" strike="noStrike">
              <a:solidFill>
                <a:srgbClr val="ffffff"/>
              </a:solidFill>
              <a:latin typeface="Tahoma"/>
            </a:endParaRPr>
          </a:p>
          <a:p>
            <a:pPr marL="339480" indent="-3394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Analyses par valeurs individuelles sur un champ caractère ou un codage numérique </a:t>
            </a:r>
            <a:endParaRPr b="0" lang="en-US" sz="2400" spc="-1" strike="noStrike">
              <a:solidFill>
                <a:srgbClr val="ffffff"/>
              </a:solidFill>
              <a:latin typeface="Tahoma"/>
            </a:endParaRPr>
          </a:p>
          <a:p>
            <a:pPr marL="339480" indent="-3394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Analyses par coloration continue</a:t>
            </a:r>
            <a:endParaRPr b="0" lang="en-US" sz="2400" spc="-1" strike="noStrike">
              <a:solidFill>
                <a:srgbClr val="ffffff"/>
              </a:solidFill>
              <a:latin typeface="Tahoma"/>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p:nvPr>
        </p:nvSpPr>
        <p:spPr>
          <a:xfrm>
            <a:off x="457200" y="404640"/>
            <a:ext cx="8229600" cy="561528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u="sng">
                <a:solidFill>
                  <a:srgbClr val="ffffff"/>
                </a:solidFill>
                <a:uFillTx/>
                <a:latin typeface="Tahoma"/>
              </a:rPr>
              <a:t>*Déroulement de la liste thématique:</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L’analyse thématique s’effectue en trois étapes :</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110" name="Picture 4" descr="Sans titre29"/>
          <p:cNvPicPr/>
          <p:nvPr/>
        </p:nvPicPr>
        <p:blipFill>
          <a:blip r:embed="rId1"/>
          <a:stretch/>
        </p:blipFill>
        <p:spPr>
          <a:xfrm>
            <a:off x="611280" y="1484280"/>
            <a:ext cx="7921440" cy="46800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p:nvPr>
        </p:nvSpPr>
        <p:spPr>
          <a:xfrm>
            <a:off x="457200" y="691920"/>
            <a:ext cx="8229600" cy="53276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u="sng">
                <a:solidFill>
                  <a:srgbClr val="ffffff"/>
                </a:solidFill>
                <a:uFillTx/>
                <a:latin typeface="Tahoma"/>
              </a:rPr>
              <a:t>7-Intégration de données externes:</a:t>
            </a:r>
            <a:endParaRPr b="0" lang="en-US" sz="32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ahoma"/>
              </a:rPr>
              <a:t>MAPINFO vous permet de travailler avec des données provenant de logiciels différents.</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ahoma"/>
              </a:rPr>
              <a:t>Sous MAPINFO, beaucoup de format de fichiers sont lisibles directement. Ceci est valable pour les formats de base, excel, Access, lotus 1- 2- 3 et ASC2 délimité.</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ahoma"/>
              </a:rPr>
              <a:t>Cependant, l’ouverture directe de nombreux formats sous MAPINFO ne permet que de les lire , il ne sont pas modifiables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p:nvPr>
        </p:nvSpPr>
        <p:spPr>
          <a:xfrm>
            <a:off x="457200" y="691920"/>
            <a:ext cx="8229600" cy="532764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u="sng">
                <a:solidFill>
                  <a:srgbClr val="ffffff"/>
                </a:solidFill>
                <a:uFillTx/>
                <a:latin typeface="Tahoma"/>
              </a:rPr>
              <a:t>*Import/export de données vecteurs:</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Lors de transferts de fichiers entre logiciels différents de SIG, le fichier d’échange utilisé est par défaut</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  </a:t>
            </a:r>
            <a:r>
              <a:rPr b="0" lang="fr-FR" sz="2400" spc="-1" strike="noStrike">
                <a:solidFill>
                  <a:srgbClr val="ffffff"/>
                </a:solidFill>
                <a:latin typeface="Tahoma"/>
              </a:rPr>
              <a:t>MIF/MID. Le fichier MID contient les informations attributaires et le fichier MIF contient la structure de la table, la géométrie ainsi que sémiologie.</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De  manière générale, pour importer et exporter des fichiers depuis ou vers ce format MIF/MID, utilisez le menu table –import et table-export  </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Il existe cependant un autre outil, le traducteur universel, qui permet d’aller plus loin dans les échanges, car il traduit directement les fichiers issue/vers d’autres logiciels (DXF, SHP…….etc.)</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p:nvPr>
        </p:nvSpPr>
        <p:spPr>
          <a:xfrm>
            <a:off x="457200" y="764640"/>
            <a:ext cx="8229600" cy="5254920"/>
          </a:xfrm>
          <a:prstGeom prst="rect">
            <a:avLst/>
          </a:prstGeom>
          <a:noFill/>
          <a:ln w="0">
            <a:noFill/>
          </a:ln>
        </p:spPr>
        <p:txBody>
          <a:bodyPr anchor="t">
            <a:normAutofit fontScale="98000"/>
          </a:bodyPr>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u="sng">
                <a:solidFill>
                  <a:srgbClr val="ffffff"/>
                </a:solidFill>
                <a:uFillTx/>
                <a:latin typeface="Tahoma"/>
              </a:rPr>
              <a:t>4-gestion des tables (ou couches):</a:t>
            </a:r>
            <a:endParaRPr b="0" lang="en-US" sz="3200" spc="-1" strike="noStrike">
              <a:solidFill>
                <a:srgbClr val="ffffff"/>
              </a:solidFill>
              <a:latin typeface="Tahoma"/>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ahoma"/>
              </a:rPr>
              <a:t>La gestion des tables est essentielle pour bien démarrer l’apprentissage du logiciel </a:t>
            </a:r>
            <a:endParaRPr b="0" lang="en-US" sz="3200" spc="-1" strike="noStrike">
              <a:solidFill>
                <a:srgbClr val="ffffff"/>
              </a:solidFill>
              <a:latin typeface="Tahoma"/>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ahoma"/>
              </a:rPr>
              <a:t>Bien comprendre comment s’organisent les couches les unes par rapport aux autres et comment s’organise l’articulation entre la donnée géographique et la table attributaire qui lui est associée, est la base de la compréhension des logiciels SIG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Picture 4" descr="Sans titre36"/>
          <p:cNvPicPr/>
          <p:nvPr/>
        </p:nvPicPr>
        <p:blipFill>
          <a:blip r:embed="rId1"/>
          <a:stretch/>
        </p:blipFill>
        <p:spPr>
          <a:xfrm>
            <a:off x="684360" y="260280"/>
            <a:ext cx="7632720" cy="4897440"/>
          </a:xfrm>
          <a:prstGeom prst="rect">
            <a:avLst/>
          </a:prstGeom>
          <a:ln w="0">
            <a:noFill/>
          </a:ln>
        </p:spPr>
      </p:pic>
      <p:sp>
        <p:nvSpPr>
          <p:cNvPr id="114" name="Rectangle 5"/>
          <p:cNvSpPr/>
          <p:nvPr/>
        </p:nvSpPr>
        <p:spPr>
          <a:xfrm>
            <a:off x="539640" y="5444640"/>
            <a:ext cx="7912080" cy="916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ahoma"/>
              </a:rPr>
              <a:t>Lors de tout import ou export de fichiers, il est important de connaitre le système de projection du fichier d’origine afin d’éviter toutes déformations lors de la transformation !</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p:nvPr>
        </p:nvSpPr>
        <p:spPr>
          <a:xfrm>
            <a:off x="457200" y="1052640"/>
            <a:ext cx="8229600" cy="49672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u="sng">
                <a:solidFill>
                  <a:srgbClr val="ffffff"/>
                </a:solidFill>
                <a:uFillTx/>
                <a:latin typeface="Tahoma"/>
              </a:rPr>
              <a:t>*Lien aux bases de données ODBC/DBMS (Access.)</a:t>
            </a:r>
            <a:endParaRPr b="0" lang="en-US" sz="32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Tahoma"/>
              </a:rPr>
              <a:t>DBMS (database management system) est l’équivalent de SGBD (système de gestion de la base de données)</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Tahoma"/>
              </a:rPr>
              <a:t>ODBC (open database connectivity) qui est une couche logicielle devant permettre a une application Windows d’accéder de façon transparente à une base de données SQL</a:t>
            </a:r>
            <a:r>
              <a:rPr b="0" lang="fr-FR"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p:nvPr>
        </p:nvSpPr>
        <p:spPr>
          <a:xfrm>
            <a:off x="457200" y="549360"/>
            <a:ext cx="8229600" cy="54705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u="sng">
                <a:solidFill>
                  <a:srgbClr val="ffffff"/>
                </a:solidFill>
                <a:uFillTx/>
                <a:latin typeface="Tahoma"/>
              </a:rPr>
              <a:t>*Ouverture et fermeture d’une table:</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ahoma"/>
              </a:rPr>
              <a:t>Par défaut, le logiciel modifie uniquement des tables MAPINFO. Ceci concerne donc les vecteurs et les rasters  géoréférencé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Picture 4" descr="Sans titre"/>
          <p:cNvPicPr/>
          <p:nvPr/>
        </p:nvPicPr>
        <p:blipFill>
          <a:blip r:embed="rId1"/>
          <a:stretch/>
        </p:blipFill>
        <p:spPr>
          <a:xfrm>
            <a:off x="755640" y="549360"/>
            <a:ext cx="7704000" cy="5111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p:nvPr>
        </p:nvSpPr>
        <p:spPr>
          <a:xfrm>
            <a:off x="457200" y="549360"/>
            <a:ext cx="8229600" cy="54705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u="sng">
                <a:solidFill>
                  <a:srgbClr val="ffffff"/>
                </a:solidFill>
                <a:uFillTx/>
                <a:latin typeface="Tahoma"/>
              </a:rPr>
              <a:t>*Gestion visuelle des tables:</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ahoma"/>
              </a:rPr>
              <a:t>Le contrôle des couches, accessible dans le menu carte, permet la visualisation et l’apparence des couches de la fenêtre carte activ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Picture 4" descr="Sans titre10"/>
          <p:cNvPicPr/>
          <p:nvPr/>
        </p:nvPicPr>
        <p:blipFill>
          <a:blip r:embed="rId1"/>
          <a:stretch/>
        </p:blipFill>
        <p:spPr>
          <a:xfrm>
            <a:off x="826920" y="549360"/>
            <a:ext cx="7561440" cy="5472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p:nvPr>
        </p:nvSpPr>
        <p:spPr>
          <a:xfrm>
            <a:off x="457200" y="691920"/>
            <a:ext cx="8229600" cy="532764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u="sng">
                <a:solidFill>
                  <a:srgbClr val="ffffff"/>
                </a:solidFill>
                <a:uFillTx/>
                <a:latin typeface="Tahoma"/>
              </a:rPr>
              <a:t>*Affichage des données graphiques ou attributaires a l’écran:</a:t>
            </a:r>
            <a:endParaRPr b="0" lang="en-US" sz="20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ahoma"/>
              </a:rPr>
              <a:t>L’ouverture d’une fenêtre de données attributaires ou une fenêtre de superposition des couches se fais par le menu fenêtre </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ahoma"/>
              </a:rPr>
              <a:t>-menu fenêtre &gt;données pour afficher une table attributaire </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ahoma"/>
              </a:rPr>
              <a:t>-menu fenêtre &gt;carte pour afficher une superposition de couche, plusieurs couches (si elles sont ouvertes) peuvent être ajoutées simultanément dans la fenêtre carte.</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ahoma"/>
              </a:rPr>
              <a:t>Plusieurs fenêtres (cartes ou données) peuvent être affichées en même temps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Picture 4" descr="Sans titre11"/>
          <p:cNvPicPr/>
          <p:nvPr/>
        </p:nvPicPr>
        <p:blipFill>
          <a:blip r:embed="rId1"/>
          <a:stretch/>
        </p:blipFill>
        <p:spPr>
          <a:xfrm>
            <a:off x="826920" y="492120"/>
            <a:ext cx="7632720" cy="56912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12T09:05:52Z</dcterms:created>
  <dc:creator>Edition classic</dc:creator>
  <dc:description/>
  <dc:language>en-US</dc:language>
  <cp:lastModifiedBy>Edition classic</cp:lastModifiedBy>
  <dcterms:modified xsi:type="dcterms:W3CDTF">2011-01-12T09:52:05Z</dcterms:modified>
  <cp:revision>5</cp:revision>
  <dc:subject/>
  <dc:title>Diapositive 1</dc:title>
</cp:coreProperties>
</file>