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3B5-5006-4FE4-99F2-73844403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83E-98DF-4CB7-8DA9-0A4C735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294-086C-4BAE-AFBA-400C3E42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A4-C7DF-4F6F-BE09-C27C6C3A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DC1-5CA9-4F26-B831-233ABD2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406-8DB3-440C-8A21-CE879D9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9F5-D78D-4E63-BD70-74DF88E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CC3-6D96-4D5F-9A24-1EFE49B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598-98B4-4A1C-9378-39B6C2F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7A9-1D70-4CC8-9093-EDC2228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42D-C367-4085-BA7E-5B91CA4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BCB-0087-44D0-ABC6-60E6487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8ECE4-99A3-4E65-8E5E-B13A5DB39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8B943-B93C-4A47-8643-744D4F75AC3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7:55:35Z</dcterms:created>
  <dc:creator>최봉수</dc:creator>
  <dc:description/>
  <dc:language>en-US</dc:language>
  <cp:lastModifiedBy>군만두 맛있다</cp:lastModifiedBy>
  <dcterms:modified xsi:type="dcterms:W3CDTF">2023-07-12T06:05:46Z</dcterms:modified>
  <cp:revision>2</cp:revision>
  <dc:subject/>
  <dc:title>슬라이드 1</dc:title>
</cp:coreProperties>
</file>