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A75-B37B-43C4-8327-92F8DAA8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669-EF85-4B85-82C7-D6E7858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E94-FA4F-45A0-8CAA-12FB1455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BBC-8463-4C8E-911A-F03D2CAA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55E-5AE3-42ED-A10D-AF6CCD9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2E5-44A4-479D-B408-E6EBC75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3D1-A33F-4AD0-B1FF-C1761CB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3D6-6562-4C3D-8003-F21615E4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C2C-A2A8-48A7-9E6B-E671A1F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C13-F12E-4CEF-B72C-87DEF6A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AB1-5603-4E93-BAC3-3E8D6E0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AE8-4A65-4D13-AB5A-4B6103C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0341E-8F9A-4B3A-AD17-35B181E77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88399-D551-42CB-B722-E4512773404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7:55:35Z</dcterms:created>
  <dc:creator>최봉수</dc:creator>
  <dc:description/>
  <dc:language>en-US</dc:language>
  <cp:lastModifiedBy>군만두 맛있다</cp:lastModifiedBy>
  <dcterms:modified xsi:type="dcterms:W3CDTF">2023-07-12T06:05:46Z</dcterms:modified>
  <cp:revision>2</cp:revision>
  <dc:subject/>
  <dc:title>슬라이드 1</dc:title>
</cp:coreProperties>
</file>