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5EAC-7F3F-4C53-96B6-4014236C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F774-38C9-4377-BCF7-2C1661C16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9497-9168-46EB-BF68-8509D3C08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135D-F963-46F2-BCC0-DC331B99D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9FFF-C7A9-4929-BEB8-79DEAE1A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AB70-D99C-4A7A-96E3-D56019C2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A4BD-AC7A-4312-98DF-8460E32A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251F-5DAD-41A2-81D4-8F89334B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A43E-90C1-4B67-A46F-731453FB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3C6-9D26-4F90-8C86-6F0B3898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B922-282B-4DC5-AAD6-1E905B55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9B2F-2183-48BB-9366-48440576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EB7F-DF0E-481F-85A1-9902A522828D}" type="slidenum">
              <a:rPr b="0" lang="ar-SA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image" Target="../media/image4.jpeg"/><Relationship Id="rId4" Type="http://schemas.openxmlformats.org/officeDocument/2006/relationships/hyperlink" Target="file:///../../&#1601;&#1607;&#1585;&#1587;%20&#1575;&#1604;&#1578;&#1585;&#1575;&#1606;&#1610;&#1605;.pps" TargetMode="External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3386" t="4053" r="2953" b="352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808080"/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0400" y="127296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</a:rPr>
              <a:t>روحَ الله ندعو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6240" y="2409840"/>
            <a:ext cx="556272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أتي في وسطنا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1480" y="3976560"/>
            <a:ext cx="8077320" cy="1679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ملأنا بالقوة </a:t>
            </a:r>
            <a:br>
              <a:rPr sz="8000"/>
            </a:b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حيا فينا الآ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85600" y="885600"/>
            <a:ext cx="739116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</a:rPr>
              <a:t>أنت الروح المحيي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01800" y="2131920"/>
            <a:ext cx="746748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أنت الربُّ الشافي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78160" y="3784680"/>
            <a:ext cx="4692600" cy="11430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رشد و</a:t>
            </a:r>
            <a:r>
              <a:rPr b="1" lang="ar-EG" sz="8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ar-SA" sz="8000" spc="-1" strike="noStrike">
                <a:solidFill>
                  <a:srgbClr val="ffff00"/>
                </a:solidFill>
                <a:latin typeface="Arial"/>
                <a:cs typeface="Arial"/>
              </a:rPr>
              <a:t>تعزي سُد علينا الآن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06920" y="115920"/>
            <a:ext cx="2160360" cy="7920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Arial"/>
                <a:cs typeface="Arial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2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Arial"/>
                <a:ea typeface="Arial"/>
              </a:rPr>
              <a:t> القرار : أنت الروح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92">
            <a:hlinkClick r:id="rId4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6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Arial"/>
                <a:ea typeface="Arial"/>
              </a:rPr>
              <a:t>- روح الله ندعو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8T08:27:40Z</dcterms:created>
  <dc:creator/>
  <dc:description/>
  <dc:language>en-US</dc:language>
  <cp:lastModifiedBy>Sp2</cp:lastModifiedBy>
  <dcterms:modified xsi:type="dcterms:W3CDTF">2008-11-17T11:57:48Z</dcterms:modified>
  <cp:revision>22</cp:revision>
  <dc:subject/>
  <dc:title>روحَ الله ندعوك</dc:title>
</cp:coreProperties>
</file>