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EC7-2DBE-4905-806E-E02E905F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0EE-8BF7-42D8-BF3E-2A7284A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194-B9B3-4C10-ADDF-39D0B15D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DC0-F5E6-4F22-9B8F-E12930F4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AF6-C81B-4DAC-AC74-975885B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552-A0F8-48FE-BD6C-18D657DE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344-8553-41D9-A298-46DBE4E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FB0-A440-4999-87E6-D6D8C41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DC1-4772-43C6-9B28-0B36B0A4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CE7-876E-476B-9C80-9C4FDCC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F24-8CC1-4611-9E0E-088E6C2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5E1-0C87-4359-8831-B48AFCB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D1C6-637A-4583-A5A6-731018A3915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-4680"/>
            <a:ext cx="9177480" cy="68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2040" y="1141560"/>
            <a:ext cx="7711920" cy="3385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ت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يش مغر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عالم مجرور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3720" y="3448080"/>
            <a:ext cx="8218800" cy="3385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الشيطان هدفه إبع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ن طريق الن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1720" y="335448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9120" y="454500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753120" y="123516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7320" y="225900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94200" y="698400"/>
            <a:ext cx="424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98160" y="1201680"/>
            <a:ext cx="97956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جيت له بقلب حز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موعي على الخد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37400" y="3600360"/>
            <a:ext cx="10163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طهر قلبى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غيَّر حال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َّد كل الد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87440" y="1181160"/>
            <a:ext cx="5872320" cy="4483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ال لي فرحت ب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 ما عندي ل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51240" y="3332160"/>
            <a:ext cx="103122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وز مخفية ابحث عن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ي المفاتيح في إيد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235440" y="1278000"/>
            <a:ext cx="96645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شان خاطر الجرو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سـكِرنى بخمر الرو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321200" y="3600360"/>
            <a:ext cx="120452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دف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غايت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 آمال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عـيش معاك بالـرو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802040" y="1413000"/>
            <a:ext cx="430704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جيت له بقلب حز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4802040" y="2433600"/>
            <a:ext cx="430704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قاللي فرحت ب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4802040" y="3441600"/>
            <a:ext cx="430704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علشان خاطر الجر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108000" y="1281240"/>
            <a:ext cx="388764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علي حساب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2" action="ppaction://hlinksldjump"/>
          </p:cNvPr>
          <p:cNvSpPr/>
          <p:nvPr/>
        </p:nvSpPr>
        <p:spPr>
          <a:xfrm>
            <a:off x="4802040" y="417600"/>
            <a:ext cx="430704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نت عايش مغر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2-03T11:51:23Z</dcterms:modified>
  <cp:revision>51</cp:revision>
  <dc:subject/>
  <dc:title>PowerPoint Presentation</dc:title>
</cp:coreProperties>
</file>