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4FB-8C67-4D05-B246-E8E3850B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658-EAB0-475A-A4FE-7283D35D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BFA-AF6D-4864-9E4C-86F6B4D1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70F-88F6-4431-88E1-963B1BD6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A3F-3A34-46E4-95E5-888087BF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119-C98E-4E28-8665-E9E45CD0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47E-8B6F-461F-94E2-4C3DF679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33F-2F06-4764-ACE1-85ACEB4D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728-25DD-4271-A7B4-5E5DE8C1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5E5-B135-40E2-9528-8720D929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D9B-CAEF-439C-AE67-4B53B7F4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AC6-26BB-4792-91AA-D5C6E0F5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1A10-8BAB-4508-84FB-E3137638992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5.xml"/><Relationship Id="rId5" Type="http://schemas.openxmlformats.org/officeDocument/2006/relationships/image" Target="../media/image7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slide" Target="slide8.xml"/><Relationship Id="rId9" Type="http://schemas.openxmlformats.org/officeDocument/2006/relationships/image" Target="../media/image8.jpeg"/><Relationship Id="rId10" Type="http://schemas.openxmlformats.org/officeDocument/2006/relationships/hyperlink" Target="file:///../../&#1601;&#1607;&#1585;&#1587;%20&#1575;&#1604;&#1578;&#1585;&#1575;&#1606;&#1610;&#1605;.pps" TargetMode="External"/><Relationship Id="rId11" Type="http://schemas.openxmlformats.org/officeDocument/2006/relationships/image" Target="../media/image8.jpeg"/><Relationship Id="rId12" Type="http://schemas.openxmlformats.org/officeDocument/2006/relationships/slide" Target="slide1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-4680"/>
            <a:ext cx="9177480" cy="6891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62040" y="1141560"/>
            <a:ext cx="7711920" cy="3385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نت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ايش مغرو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لعالم مجرور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3720" y="3448080"/>
            <a:ext cx="8218800" cy="3385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 الشيطان هدفه إبعا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ن طريق النو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1720" y="3354480"/>
            <a:ext cx="95076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سوع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دد كل ديو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39120" y="4545000"/>
            <a:ext cx="7680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عود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753120" y="1235160"/>
            <a:ext cx="113439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حساب الدم أنا داخ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7320" y="2259000"/>
            <a:ext cx="69289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خل ليَّ نص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94200" y="698400"/>
            <a:ext cx="4249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98160" y="1201680"/>
            <a:ext cx="979560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جيت له بقلب حزيـ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موعي على الخد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437400" y="3600360"/>
            <a:ext cx="1016316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طهر قلبى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غيَّر حال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دَّد كل الد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9880" y="3276720"/>
            <a:ext cx="95076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سوع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دد كل ديو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77280" y="4467240"/>
            <a:ext cx="7680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عود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714960" y="1157400"/>
            <a:ext cx="113439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حساب الدم أنا داخ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35480" y="2181240"/>
            <a:ext cx="69289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خل ليَّ نص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47520" y="-38160"/>
            <a:ext cx="9239040" cy="693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87440" y="1181160"/>
            <a:ext cx="5872320" cy="4483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قال لي فرحت ب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ل ما عندي ل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51240" y="3332160"/>
            <a:ext cx="1031220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نوز مخفية ابحث عن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ي المفاتيح في إيدي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9880" y="3276720"/>
            <a:ext cx="95076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سوع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دد كل ديو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7280" y="4467240"/>
            <a:ext cx="7680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عود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714960" y="1157400"/>
            <a:ext cx="113439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حساب الدم أنا داخ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35480" y="2181240"/>
            <a:ext cx="69289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خل ليَّ نص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235440" y="1278000"/>
            <a:ext cx="966456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شان خاطر الجرو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سـكِرنى بخمر الروح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321200" y="3600360"/>
            <a:ext cx="1204524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هدفي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غايتي 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كل آمال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عـيش معاك بالـروح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9880" y="3276720"/>
            <a:ext cx="95076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يسوع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دد كل ديو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77280" y="4467240"/>
            <a:ext cx="76802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عود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714960" y="1157400"/>
            <a:ext cx="113439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لى حساب الدم أنا داخ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35480" y="2181240"/>
            <a:ext cx="69289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داخل ليَّ نص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4802040" y="1413000"/>
            <a:ext cx="430704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جيت له بقلب حز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4" action="ppaction://hlinksldjump"/>
          </p:cNvPr>
          <p:cNvSpPr/>
          <p:nvPr/>
        </p:nvSpPr>
        <p:spPr>
          <a:xfrm>
            <a:off x="4802040" y="2433600"/>
            <a:ext cx="430704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قاللي فرحت ب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6" action="ppaction://hlinksldjump"/>
          </p:cNvPr>
          <p:cNvSpPr/>
          <p:nvPr/>
        </p:nvSpPr>
        <p:spPr>
          <a:xfrm>
            <a:off x="4802040" y="3441600"/>
            <a:ext cx="430704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علشان خاطر الجرو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108000" y="1281240"/>
            <a:ext cx="388764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علي حساب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92">
            <a:hlinkClick r:id="rId10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2" action="ppaction://hlinksldjump"/>
          </p:cNvPr>
          <p:cNvSpPr/>
          <p:nvPr/>
        </p:nvSpPr>
        <p:spPr>
          <a:xfrm>
            <a:off x="4802040" y="417600"/>
            <a:ext cx="4307040" cy="707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كنت عايش مغرو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12-03T11:51:23Z</dcterms:modified>
  <cp:revision>51</cp:revision>
  <dc:subject/>
  <dc:title>PowerPoint Presentation</dc:title>
</cp:coreProperties>
</file>