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C6F0-A827-4054-BF40-C4CF3A381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C163-BA3E-4CB8-AAAB-85B307CEA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6249-6B47-4B15-831F-1142AD1F6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5A68-2D90-4EA0-A282-5771C113F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5D981-9948-49B7-A54C-90881B867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65176-70E5-4953-8A1A-7E4733D40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A8BA8-6BA2-40A0-B64C-B64D66B65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12E51-48D2-4929-B78B-DC6BAC608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116C3-A938-4917-AC21-69540DAC5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96069-6A41-41C9-A73C-45B3F412C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BDAFE-E407-4E33-9A45-85754C7C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5EED-D4F4-4104-BC97-7E5C0F5E6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F4462-A552-4EE3-94FD-1F0A9C5F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50298-8F30-4700-8EB8-F22109A2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9FABD-C599-4477-ACB5-066CB8CD7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3EBDA-C990-468C-9215-E389D99A7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40C4E-2B87-4440-8AC0-D5C1C95ED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852E-ACA9-4F18-B520-AF40CE1BF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3721-83BC-43D7-8B37-3FDF5DA73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7E08-A53F-4840-9965-DF054EB6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ED6B-4130-4398-8CA3-0ADAD9607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C3C8-C5B2-4E48-995D-780E7AD3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E195-FF86-4A62-BAE3-DF4351A3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4E2C-1759-4173-B9B3-BAA7A444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F420E-D6AF-4CCE-B77B-56C24EA158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F34FF-7169-4001-A44E-5A498FB9BF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PERSAMAAN DIFERENSIAL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Tampilan grafis penyelesaian numerik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050920" y="1125360"/>
          <a:ext cx="4316400" cy="525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125360"/>
                    <a:ext cx="431640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 flipV="1">
            <a:off x="4481640" y="530064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070600" y="4723920"/>
            <a:ext cx="0" cy="10810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495680" y="4724280"/>
            <a:ext cx="574920" cy="649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070600" y="3645000"/>
            <a:ext cx="431640" cy="1079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5502240" y="1844280"/>
            <a:ext cx="504720" cy="180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478480" y="3573360"/>
            <a:ext cx="71280" cy="71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37120" y="4700520"/>
            <a:ext cx="71280" cy="71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35560" y="5338800"/>
            <a:ext cx="71280" cy="71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74960" y="6021360"/>
            <a:ext cx="151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19680" y="5948280"/>
            <a:ext cx="0" cy="1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481640" y="5948280"/>
            <a:ext cx="0" cy="1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070600" y="5948280"/>
            <a:ext cx="0" cy="1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90960" y="600408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ff"/>
                </a:solidFill>
                <a:latin typeface="Arial"/>
              </a:rPr>
              <a:t>Δ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67320" y="600408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ff"/>
                </a:solidFill>
                <a:latin typeface="Arial"/>
              </a:rPr>
              <a:t>Δ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70240" y="5300640"/>
            <a:ext cx="792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x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,y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72040" y="4581360"/>
            <a:ext cx="719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x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,y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422600" y="5140440"/>
            <a:ext cx="719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x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,y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3906720" y="5386320"/>
            <a:ext cx="57492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81520" y="5564160"/>
            <a:ext cx="71280" cy="71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013360" y="1557360"/>
                <a:ext cx="561960" cy="3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6456240" y="3860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nyelesaian numeri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5430600" y="3860640"/>
            <a:ext cx="101268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METODE-METODE PENYELESAIAN PD SECARA NUMERIK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ode E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ode He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ode Poligon (Euler yang dimodifikas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ode Runge-Kutta (order 1, 2, 3 &amp; 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etode Satu Langkah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kan dicari secara berurutan suatu nilai dari nilai yang telah diperoleh sebelumny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ngan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dalah perkiraan kemiringan yang digunakan untuk ekstrapolasi dari nilai yi ke y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+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yang berjarak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yaitu selisih antara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= 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+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– 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195640" y="2884320"/>
                <a:ext cx="360036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ΦΔ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ETODE EULE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derhana, kurang teli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turunkan dari deret Taylor dengan mengabaikan suku yang mengandung pangkat lebih tinggi dari 2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mus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916360" y="4635360"/>
                <a:ext cx="525600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58920" y="1341360"/>
            <a:ext cx="6337440" cy="4967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Metode Euler Secara Grafis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"/>
          <p:cNvSpPr/>
          <p:nvPr/>
        </p:nvSpPr>
        <p:spPr>
          <a:xfrm>
            <a:off x="1692360" y="5373720"/>
            <a:ext cx="568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484360" y="2708280"/>
            <a:ext cx="3527640" cy="1081080"/>
          </a:xfrm>
          <a:custGeom>
            <a:avLst/>
            <a:gdLst/>
            <a:ahLst/>
            <a:rect l="l" t="t" r="r" b="b"/>
            <a:pathLst>
              <a:path w="2222" h="681">
                <a:moveTo>
                  <a:pt x="0" y="681"/>
                </a:moveTo>
                <a:cubicBezTo>
                  <a:pt x="359" y="465"/>
                  <a:pt x="718" y="249"/>
                  <a:pt x="1088" y="136"/>
                </a:cubicBezTo>
                <a:cubicBezTo>
                  <a:pt x="1458" y="23"/>
                  <a:pt x="1840" y="11"/>
                  <a:pt x="2222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843280" y="3573360"/>
            <a:ext cx="0" cy="180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95640" y="3573360"/>
            <a:ext cx="0" cy="180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2484360" y="1557360"/>
            <a:ext cx="3527640" cy="22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435640" y="1916280"/>
            <a:ext cx="0" cy="3457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00720" y="1916280"/>
            <a:ext cx="0" cy="3457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1979280" y="357336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3563640" y="2708280"/>
            <a:ext cx="1871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3564000" y="1916280"/>
            <a:ext cx="29527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51280" y="191628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050920" y="4221000"/>
            <a:ext cx="36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84720" y="3638520"/>
            <a:ext cx="64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+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4000" y="21258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437080" y="134136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364000" y="27018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=y(x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940360" y="1484280"/>
            <a:ext cx="136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=y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(x-x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698920" y="5294160"/>
            <a:ext cx="36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5300640"/>
            <a:ext cx="574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+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2842920" y="587700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843280" y="5661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435640" y="5734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24360" y="5805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ETODE HEU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ode Heun merupakan modifikasi dari metode Euler. Modifikasi dilakukan dalam memperkirakan kemiringan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. Metode ini memperkirakan dua turunan pada interval, yaitu pada ujung awal dan akhir. Kedua turunan tersebut kemudian dirata-ratakan untuk mendapatkan perkiraan kemiringan yang lebih bai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ode Heun terdiri dari persamaan prediktor dan persamaan korekt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amaan prediktor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amaan korektor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627280" y="3716280"/>
                <a:ext cx="432108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2627280" y="5516640"/>
                <a:ext cx="540072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0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403280" y="1052640"/>
            <a:ext cx="6480360" cy="53290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Metode Heun Secara Grafis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2" name=""/>
          <p:cNvSpPr/>
          <p:nvPr/>
        </p:nvSpPr>
        <p:spPr>
          <a:xfrm>
            <a:off x="1692360" y="5373720"/>
            <a:ext cx="568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2708280"/>
            <a:ext cx="3527640" cy="1081080"/>
          </a:xfrm>
          <a:custGeom>
            <a:avLst/>
            <a:gdLst/>
            <a:ahLst/>
            <a:rect l="l" t="t" r="r" b="b"/>
            <a:pathLst>
              <a:path w="2222" h="681">
                <a:moveTo>
                  <a:pt x="0" y="681"/>
                </a:moveTo>
                <a:cubicBezTo>
                  <a:pt x="359" y="465"/>
                  <a:pt x="718" y="249"/>
                  <a:pt x="1088" y="136"/>
                </a:cubicBezTo>
                <a:cubicBezTo>
                  <a:pt x="1458" y="23"/>
                  <a:pt x="1840" y="11"/>
                  <a:pt x="2222" y="0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3280" y="3573360"/>
            <a:ext cx="0" cy="180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484360" y="1438200"/>
            <a:ext cx="3456000" cy="2376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135400" y="1989000"/>
            <a:ext cx="0" cy="338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867280" y="117648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4720" y="148428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+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364000" y="27018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=f(x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698920" y="5294160"/>
            <a:ext cx="36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5300640"/>
            <a:ext cx="574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+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2842920" y="5877000"/>
            <a:ext cx="23050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843280" y="5661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148360" y="5734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51280" y="58705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492360" y="1628640"/>
            <a:ext cx="3527640" cy="72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3924360" y="1437840"/>
            <a:ext cx="2663640" cy="10414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700360" y="2577600"/>
            <a:ext cx="2663640" cy="10414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84840" y="1709640"/>
            <a:ext cx="21744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948360" y="1392120"/>
            <a:ext cx="64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+1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979640" y="306216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y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625840" y="3286080"/>
            <a:ext cx="21744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516720" y="119700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ỹ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89560" y="2112840"/>
            <a:ext cx="12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+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y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+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5148360" y="2349360"/>
            <a:ext cx="287280" cy="28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987640" y="3500280"/>
            <a:ext cx="3672000" cy="3024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Metode Poligon (Euler yang dimodifikasi)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169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lam metode poligon menggunakan metode Euler untuk memprediksi kemiringan nilai y pada titik tengah interv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mus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3205080" y="5775480"/>
                <a:ext cx="316728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)</m:t>
                    </m:r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3276720" y="3573360"/>
                <a:ext cx="280800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f>
                      <m:num>
                        <m:r>
                          <m:t xml:space="preserve">Δ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3276720" y="4702320"/>
                <a:ext cx="2592360" cy="73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692360" y="1125360"/>
            <a:ext cx="6408720" cy="532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Metode Poligon Secara Grafis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7" name=""/>
          <p:cNvSpPr/>
          <p:nvPr/>
        </p:nvSpPr>
        <p:spPr>
          <a:xfrm>
            <a:off x="1692360" y="5373720"/>
            <a:ext cx="568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4360" y="2671920"/>
            <a:ext cx="3724200" cy="1117440"/>
          </a:xfrm>
          <a:custGeom>
            <a:avLst/>
            <a:gdLst/>
            <a:ahLst/>
            <a:rect l="l" t="t" r="r" b="b"/>
            <a:pathLst>
              <a:path w="2346" h="704">
                <a:moveTo>
                  <a:pt x="0" y="704"/>
                </a:moveTo>
                <a:cubicBezTo>
                  <a:pt x="359" y="488"/>
                  <a:pt x="697" y="276"/>
                  <a:pt x="1088" y="159"/>
                </a:cubicBezTo>
                <a:cubicBezTo>
                  <a:pt x="1479" y="42"/>
                  <a:pt x="2084" y="33"/>
                  <a:pt x="2346" y="0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843280" y="3573360"/>
            <a:ext cx="0" cy="180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2484360" y="1438200"/>
            <a:ext cx="3456000" cy="2376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35400" y="1989000"/>
            <a:ext cx="0" cy="338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867280" y="117648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229440" y="2565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=f(x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698920" y="5294160"/>
            <a:ext cx="36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003640" y="5300640"/>
            <a:ext cx="574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+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2842920" y="6093000"/>
            <a:ext cx="23050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43280" y="5877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5877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607680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2773440" y="2107800"/>
            <a:ext cx="3454200" cy="1033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227640" y="184464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+1/2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979640" y="306216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y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625840" y="3286080"/>
            <a:ext cx="21744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435640" y="3062160"/>
            <a:ext cx="12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+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y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+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3995640" y="2708280"/>
            <a:ext cx="0" cy="2665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2627280" y="2611080"/>
            <a:ext cx="3454560" cy="1033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5148360" y="2924280"/>
            <a:ext cx="28728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2842920" y="5734080"/>
            <a:ext cx="1152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132000" y="5722920"/>
            <a:ext cx="7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x/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engertia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amaan diferensial : persamaan yang mengandung turunan fungs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nyak permasalahan dalam bidang ilmu pengetahuan dan teknik yang dapat diformulasikan ke dalam bentuk persamaan diferensi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oh kasus : persamaan lendutan balok, teori getaran, profil muka air sungai, perubahan garis pantai, gaya gelombang pada anjungan lepas pantai, dsb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ETODE RUNGE -KUTT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7720" y="1557000"/>
            <a:ext cx="800748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ntuk umum rumus Runge-Kutta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ngan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y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) adalah fungsi pertambahan yang merupakan kemiringan rerata pada interv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gsi pertambahan dapat ditulis dalam bentuk umum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1835280" y="2071800"/>
                <a:ext cx="51116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Φ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Δx</m:t>
                    </m:r>
                    <m:r>
                      <m:t xml:space="preserve">)</m:t>
                    </m:r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1908000" y="5514840"/>
                <a:ext cx="49690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Comic Sans MS"/>
              </a:rPr>
              <a:t>LEONHARD EULE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ahir dekat Basel Swi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urid Johann Bernoul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enulis matematika setara dengan 75 buk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enemukan bilangan natural/ bilangan Euler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2,7181828184…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enemukan hubungan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= -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Dapat mengingat di kepalanya hitungan sampai dengan 100 desim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Seorang yang mencintai keluarga dan seringkali menghabiskan waktu sore dengan permainan-permainan yang ada sangkut pautnya dengan matematik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JENIS PERSAMAAN DIFERENSIAL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amaan diferensial biasa : jika mengandung 1 variabel beb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amaan diferensial parsiil : jika mengandung lebih dari 1 variabel beb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DE  : Ordinary Differential Eq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DE  : Partial Differential Eq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ORDER PERSAMAAN DIFERENSIA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der PD ditentukan oleh order/derajad tertinggi dari turunanny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oh order 1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oh order 2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oh PD Parsiil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4859280" y="2936880"/>
                <a:ext cx="216072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861080" y="4149720"/>
                <a:ext cx="30240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y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859280" y="5300640"/>
                <a:ext cx="165600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y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ENYELESAIAN P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nyelesaian persamaan diferensial adalah suatu fungsi yang memenuhi PD dan juga kondisi awal yang diberikan pada persamaan tersebu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ika tidak diberikan kondisi awal maka penyelesaian yang diperoleh adalah penyelesaian um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tuk mendapatkan penyelesaian tunggal perlu informasi tambahan misalnya nilai y(x) dan/atau turunannya pada nilai x tertent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ntoh Penyelesaian P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sal PD order 1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nyelesaiannya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tuk mendapatkan penyelesaian tunggal perlu informasi tambahan, misal kondisi awal yaitu di x = 0 nilai y = 1 ata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(x=0)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peroleh penyelesaian tunggal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4427640" y="1773360"/>
                <a:ext cx="115236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4427640" y="2997360"/>
                <a:ext cx="158436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6012000" y="5229360"/>
                <a:ext cx="14396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Penyelesaian dari 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449440" y="1600200"/>
          <a:ext cx="4243320" cy="492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49440" y="1600200"/>
                    <a:ext cx="424332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32360" y="404640"/>
                <a:ext cx="151128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ENYELESAIAN NUMERIK P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D tidak selalu dapat atau mudah diselesaikan secara analit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ntuk-bentuk PD yang tidak dapat diselesaikan secara analitis dapat diselesaikan dengan metode numeri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nyelesaian dengan metode numerik dilakukan pada titik-titik yang ditentukan secara berurutan. Untuk mendapatkan hasil yang lebih teliti maka jarak (interval) antara titik-titik yang berurutan tersebut dibuat semakin keci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URUTAN PENYELESAIAN PD DENGAN METODE NUMERIK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tungan dimulai dari nilai awal yang diketahui, misalnya di titik (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hitung kemiringan kurva (garis singgung) di titik tersebu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rdasar nilai 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i titik 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an kemiringan fungsi di titik-titik tersebut dihitung nilai 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i titik 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ang berjarak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 dari 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lanjutnya titik (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yang telah diperoleh tersebut digunakan untuk menghitung nilai 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i titik 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ang berjarak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 dari titik 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sedur hitungan tersebut diulangi untuk mendapatkan y selanjutny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1T04:42:39Z</dcterms:created>
  <dc:creator>AXIOO</dc:creator>
  <dc:description/>
  <dc:language>en-US</dc:language>
  <cp:lastModifiedBy>AXIOO</cp:lastModifiedBy>
  <dcterms:modified xsi:type="dcterms:W3CDTF">2008-01-02T07:19:32Z</dcterms:modified>
  <cp:revision>10</cp:revision>
  <dc:subject/>
  <dc:title>PERSAMAAN DIFERENSIAL</dc:title>
</cp:coreProperties>
</file>