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B11-4F95-40E4-AD64-C8F95585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076-E37E-4933-BB9F-A72B29D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FCA-7756-4397-8199-1E92B933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4E2-8C1E-4F97-814D-0D35083D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707A-A1BE-4A55-A6BD-AA64B951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AA02-0F24-42C7-877C-F673C1A5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5D7C-F555-4BAF-B518-29F78985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F53B-921D-4C76-8542-FED0889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64BC-D614-4372-8E8E-14288D0B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43F2-B5B2-41FF-9394-87FEC115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F7FB-0985-400B-9F28-AEAC79F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78C-E73E-4877-9806-6433F6C3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7E0-81F4-40F5-A5E3-CFF5282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14DD-77B0-47AE-9A80-F9FCC47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4E15-0880-4712-8FE3-88FFCB6F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DC8F-D33A-40BC-ADA7-BF53A773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DC8C-CB02-48F8-87A1-18DF52D9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005-B557-40BD-925E-24C98F50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564-D5EA-4F27-9F61-B65E175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178-C5D1-453C-817B-EE5D3657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4BA-ED55-4403-B684-D1D7EDD5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B64-92A1-4C24-812E-C5E11BA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670-44B0-426C-9876-786B74DF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930-A59D-45EE-A994-78191DF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A35-A0C8-461C-AE2E-C4E381D02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D42C-7CB9-4EC3-A7E0-8FD8D46BA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RSAMAAN DIFERENSIA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Tampilan grafis penyelesaian numeri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0920" y="1125360"/>
          <a:ext cx="43164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25360"/>
                    <a:ext cx="43164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V="1">
            <a:off x="4481640" y="530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070600" y="472392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4724280"/>
            <a:ext cx="57492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70600" y="3645000"/>
            <a:ext cx="43164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2240" y="1844280"/>
            <a:ext cx="50472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78480" y="357336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7120" y="470052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35560" y="5338800"/>
            <a:ext cx="712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74960" y="60213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19680" y="594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81640" y="594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0600" y="594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0960" y="600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67320" y="6004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0240" y="5300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2040" y="4581360"/>
            <a:ext cx="71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2600" y="5140440"/>
            <a:ext cx="71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06720" y="5386320"/>
            <a:ext cx="574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1520" y="556416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013360" y="1557360"/>
                <a:ext cx="5619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456240" y="386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yelesaian numer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430600" y="3860640"/>
            <a:ext cx="10126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TODE-METODE PENYELESAIAN PD SECARA NUMERI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E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He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Poligon (Euler yang dimodifikas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Runge-Kutta (order 1, 2, 3 &amp; 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Satu Langka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n dicari secara berurutan suatu nilai dari nilai yang telah diperoleh sebelumny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ga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dalah perkiraan kemiringan yang digunakan untuk ekstrapolasi dari nilai yi ke 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yang berjarak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yaitu selisih antara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–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95640" y="2884320"/>
                <a:ext cx="3600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ΦΔ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EUL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erhana, kurang tel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turunkan dari deret Taylor dengan mengabaikan suku yang mengandung pangkat lebih tinggi dari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mu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4635360"/>
                <a:ext cx="5256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8920" y="1341360"/>
            <a:ext cx="6337440" cy="4967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Euler Secara Grafi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373720"/>
            <a:ext cx="568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2708280"/>
            <a:ext cx="3527640" cy="1081080"/>
          </a:xfrm>
          <a:custGeom>
            <a:avLst/>
            <a:gdLst/>
            <a:ahLst/>
            <a:rect l="l" t="t" r="r" b="b"/>
            <a:pathLst>
              <a:path w="2222" h="681">
                <a:moveTo>
                  <a:pt x="0" y="681"/>
                </a:moveTo>
                <a:cubicBezTo>
                  <a:pt x="359" y="465"/>
                  <a:pt x="718" y="249"/>
                  <a:pt x="1088" y="136"/>
                </a:cubicBezTo>
                <a:cubicBezTo>
                  <a:pt x="1458" y="23"/>
                  <a:pt x="1840" y="11"/>
                  <a:pt x="222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484360" y="1557360"/>
            <a:ext cx="352764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1916280"/>
            <a:ext cx="0" cy="34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1916280"/>
            <a:ext cx="0" cy="345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573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563640" y="270828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64000" y="191628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19162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422100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363852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212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37080" y="1341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2701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y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148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(x-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98920" y="529416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53006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42920" y="587700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5734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58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HEU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Heun merupakan modifikasi dari metode Euler. Modifikasi dilakukan dalam memperkirakan kemiringa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 Metode ini memperkirakan dua turunan pada interval, yaitu pada ujung awal dan akhir. Kedua turunan tersebut kemudian dirata-ratakan untuk mendapatkan perkiraan kemiringan yang lebih ba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e Heun terdiri dari persamaan prediktor dan persamaan korek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amaan predik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amaan korek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627280" y="3716280"/>
                <a:ext cx="432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627280" y="5516640"/>
                <a:ext cx="5400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3280" y="1052640"/>
            <a:ext cx="6480360" cy="532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Heun Secara Grafi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5373720"/>
            <a:ext cx="568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2708280"/>
            <a:ext cx="3527640" cy="1081080"/>
          </a:xfrm>
          <a:custGeom>
            <a:avLst/>
            <a:gdLst/>
            <a:ahLst/>
            <a:rect l="l" t="t" r="r" b="b"/>
            <a:pathLst>
              <a:path w="2222" h="681">
                <a:moveTo>
                  <a:pt x="0" y="681"/>
                </a:moveTo>
                <a:cubicBezTo>
                  <a:pt x="359" y="465"/>
                  <a:pt x="718" y="249"/>
                  <a:pt x="1088" y="136"/>
                </a:cubicBezTo>
                <a:cubicBezTo>
                  <a:pt x="1458" y="23"/>
                  <a:pt x="1840" y="11"/>
                  <a:pt x="222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84360" y="1438200"/>
            <a:ext cx="345600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35400" y="1989000"/>
            <a:ext cx="0" cy="33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11764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1484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2701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98920" y="529416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530064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42920" y="587700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5734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1280" y="5870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492360" y="1628640"/>
            <a:ext cx="35276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924360" y="1437840"/>
            <a:ext cx="2663640" cy="1041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700360" y="2577600"/>
            <a:ext cx="2663640" cy="1041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84840" y="1709640"/>
            <a:ext cx="217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139212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30621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5840" y="3286080"/>
            <a:ext cx="217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6720" y="119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ỹ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89560" y="21128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48360" y="2349360"/>
            <a:ext cx="2872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987640" y="3500280"/>
            <a:ext cx="3672000" cy="302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Poligon (Euler yang dimodifikasi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1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am metode poligon menggunakan metode Euler untuk memprediksi kemiringan nilai y pada titik tengah inter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u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5080" y="5775480"/>
                <a:ext cx="3167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276720" y="3573360"/>
                <a:ext cx="28080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76720" y="4702320"/>
                <a:ext cx="259236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92360" y="1125360"/>
            <a:ext cx="6408720" cy="532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tode Poligon Secara Grafi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5373720"/>
            <a:ext cx="568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2671920"/>
            <a:ext cx="3724200" cy="1117440"/>
          </a:xfrm>
          <a:custGeom>
            <a:avLst/>
            <a:gdLst/>
            <a:ahLst/>
            <a:rect l="l" t="t" r="r" b="b"/>
            <a:pathLst>
              <a:path w="2346" h="704">
                <a:moveTo>
                  <a:pt x="0" y="704"/>
                </a:moveTo>
                <a:cubicBezTo>
                  <a:pt x="359" y="488"/>
                  <a:pt x="697" y="276"/>
                  <a:pt x="1088" y="159"/>
                </a:cubicBezTo>
                <a:cubicBezTo>
                  <a:pt x="1479" y="42"/>
                  <a:pt x="2084" y="33"/>
                  <a:pt x="234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328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84360" y="1438200"/>
            <a:ext cx="345600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35400" y="1989000"/>
            <a:ext cx="0" cy="33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1764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944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98920" y="529416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530064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842920" y="609300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87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587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6076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773440" y="2107800"/>
            <a:ext cx="3454200" cy="10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7640" y="1844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+1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79640" y="30621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5840" y="3286080"/>
            <a:ext cx="217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306216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995640" y="2708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627280" y="2611080"/>
            <a:ext cx="3454560" cy="10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148360" y="2924280"/>
            <a:ext cx="287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57340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5722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x/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erti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amaan diferensial : persamaan yang mengandung turunan fungs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yak permasalahan dalam bidang ilmu pengetahuan dan teknik yang dapat diformulasikan ke dalam bentuk persamaan diferens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kasus : persamaan lendutan balok, teori getaran, profil muka air sungai, perubahan garis pantai, gaya gelombang pada anjungan lepas pantai, ds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E RUNGE -KUT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tuk umum rumus Runge-Kutt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ga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) adalah fungsi pertambahan yang merupakan kemiringan rerata pada inter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si pertambahan dapat ditulis dalam bentuk umum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35280" y="2071800"/>
                <a:ext cx="5111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08000" y="5514840"/>
                <a:ext cx="4969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LEONHARD EUL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hir dekat Basel Swi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rid Johann Bernou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ulis matematika setara dengan 75 buk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emukan bilangan natural/ bilangan Eule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2,7181828184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emukan hubunga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=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apat mengingat di kepalanya hitungan sampai dengan 100 des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eorang yang mencintai keluarga dan seringkali menghabiskan waktu sore dengan permainan-permainan yang ada sangkut pautnya dengan matemati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JENIS PERSAMAAN DIFERENSIAL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amaan diferensial biasa : jika mengandung 1 variabel beb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amaan diferensial parsiil : jika mengandung lebih dari 1 variabel beb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E  : Ordinary Differential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E  : Partial Differential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DER PERSAMAAN DIFERENS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 PD ditentukan oleh order/derajad tertinggi dari turuna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order 1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order 2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PD Parsiil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859280" y="2936880"/>
                <a:ext cx="2160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61080" y="4149720"/>
                <a:ext cx="3024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59280" y="5300640"/>
                <a:ext cx="1656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YELESAIAN P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yelesaian persamaan diferensial adalah suatu fungsi yang memenuhi PD dan juga kondisi awal yang diberikan pada persamaan terseb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ka tidak diberikan kondisi awal maka penyelesaian yang diperoleh adalah penyelesaian um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uk mendapatkan penyelesaian tunggal perlu informasi tambahan misalnya nilai y(x) dan/atau turunannya pada nilai x tertent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oh Penyelesaian P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al PD order 1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yelesaiannya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dapatkan penyelesaian tunggal perlu informasi tambahan, misal kondisi awal yaitu di x = 0 nilai y = 1 ata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(x=0)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eroleh penyelesaian tungg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27640" y="1773360"/>
                <a:ext cx="1152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427640" y="2997360"/>
                <a:ext cx="1584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12000" y="5229360"/>
                <a:ext cx="143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Penyelesaian dari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449440" y="1600200"/>
          <a:ext cx="424332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600200"/>
                    <a:ext cx="4243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32360" y="404640"/>
                <a:ext cx="15112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YELESAIAN NUMERIK P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 tidak selalu dapat atau mudah diselesaikan secara anal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tuk-bentuk PD yang tidak dapat diselesaikan secara analitis dapat diselesaikan dengan metode numer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yelesaian dengan metode numerik dilakukan pada titik-titik yang ditentukan secara berurutan. Untuk mendapatkan hasil yang lebih teliti maka jarak (interval) antara titik-titik yang berurutan tersebut dibuat semakin ke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URUTAN PENYELESAIAN PD DENGAN METODE NUMERI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tungan dimulai dari nilai awal yang diketahui, misalnya di titik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itung kemiringan kurva (garis singgung) di titik terseb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dasar nilai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n kemiringan fungsi di titik-titik tersebut dihitung nilai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ang berjarak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dari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anjutnya titik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yang telah diperoleh tersebut digunakan untuk menghitung nilai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ang berjarak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dari titik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dur hitungan tersebut diulangi untuk mendapatkan y selanjutn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4:42:39Z</dcterms:created>
  <dc:creator>AXIOO</dc:creator>
  <dc:description/>
  <dc:language>en-US</dc:language>
  <cp:lastModifiedBy>AXIOO</cp:lastModifiedBy>
  <dcterms:modified xsi:type="dcterms:W3CDTF">2008-01-02T07:19:32Z</dcterms:modified>
  <cp:revision>10</cp:revision>
  <dc:subject/>
  <dc:title>PERSAMAAN DIFERENSIAL</dc:title>
</cp:coreProperties>
</file>