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E1184-A479-4942-ACCA-9B33102A5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454A8-7FC9-46DF-9263-35246FBD8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0A8B9-E4CF-4472-ABCD-BAF6413E8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D71D7-7284-4810-AF6B-D35935B08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53497-28E8-467D-A487-4601570ED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21D8D-6C58-41DA-B897-0589D73A3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62EDC-986A-40F7-B8E8-510A75840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2E619-FD33-4959-9D35-883569620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33B1F-20D8-40E2-8E9D-2EE94E2CE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A7E02-91F5-481E-A1EB-DEB83B091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5CCFA-C5A6-4175-98A2-C99FF71B0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05519-4BA3-4069-A91D-83F491893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91687-9379-4A1E-B0DB-19AB6C3E1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5A62A-E49F-44D7-BBE6-A9B76D306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444EF-C636-487F-A3BD-E30337E0A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9E1E4-BCD7-49E6-AA1A-8D1207FA2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35F05-3A8D-4D58-B104-A12324F99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E96DE-701B-4B72-AC71-41D6EEFE4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7E1A6-ECCA-4587-BFC6-12BC67FCD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03A72-7A4A-45C9-BBE0-166D6E1EC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6D5F1-0E5A-4336-8899-6C76D8F8A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79DCA-2A04-49C8-8A7D-CCF240C98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9ACC2-F261-4277-BB44-4E6BE71DD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90FA-2642-477B-B178-901DAAE53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51C6-06BA-4C08-94A1-D812E5CF8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D197-3E30-4DA9-9891-B5E257B8F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F966-40E8-484E-AF43-8180EA32F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E13E-9D50-42F6-AEE4-CFC7C0422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7601-7276-48A0-A531-809F2F5E7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6C31-2417-44F0-8776-B34D9D515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9346-4E38-491F-B4B9-0CF2EEEAF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9FB6-5A53-4C62-91B7-BEE7A62AC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8208-BFF3-4152-AC9A-79E8499E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4617-6980-4016-9670-06E77CFB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E863-552F-4D6F-A16F-931D1F81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0AB85-9816-4C49-8989-E89D891B7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12"/>
          <p:cNvSpPr txBox="1"/>
          <p:nvPr/>
        </p:nvSpPr>
        <p:spPr>
          <a:xfrm>
            <a:off x="4648320" y="3200400"/>
            <a:ext cx="42670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tr"/>
              </a:rPr>
              <a:t>براي نجات جهان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tr"/>
              <a:ea typeface="Titr"/>
            </a:endParaRPr>
          </a:p>
        </p:txBody>
      </p:sp>
      <p:sp>
        <p:nvSpPr>
          <p:cNvPr id="50" name="WordArt 13"/>
          <p:cNvSpPr txBox="1"/>
          <p:nvPr/>
        </p:nvSpPr>
        <p:spPr>
          <a:xfrm>
            <a:off x="3276720" y="4114800"/>
            <a:ext cx="58672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3240">
                  <a:solidFill>
                    <a:srgbClr val="00d802"/>
                  </a:solidFill>
                  <a:miter/>
                </a:ln>
                <a:solidFill>
                  <a:srgbClr val="00ff00"/>
                </a:solidFill>
                <a:latin typeface="Titr"/>
              </a:rPr>
              <a:t>گياهخوار</a:t>
            </a:r>
            <a:endParaRPr b="1" lang="en-US" sz="2400" spc="1" strike="noStrike">
              <a:ln w="3240">
                <a:solidFill>
                  <a:srgbClr val="00d802"/>
                </a:solidFill>
                <a:miter/>
              </a:ln>
              <a:solidFill>
                <a:srgbClr val="00ff00"/>
              </a:solidFill>
              <a:latin typeface="Titr"/>
              <a:ea typeface="Titr"/>
            </a:endParaRPr>
          </a:p>
        </p:txBody>
      </p:sp>
      <p:sp>
        <p:nvSpPr>
          <p:cNvPr id="51" name="WordArt 15"/>
          <p:cNvSpPr txBox="1"/>
          <p:nvPr/>
        </p:nvSpPr>
        <p:spPr>
          <a:xfrm>
            <a:off x="685800" y="4495680"/>
            <a:ext cx="22096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3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tr"/>
              </a:rPr>
              <a:t>شويد</a:t>
            </a:r>
            <a:endParaRPr b="1" lang="en-US" sz="123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tr"/>
              <a:ea typeface="Tit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7"/>
          <p:cNvSpPr/>
          <p:nvPr/>
        </p:nvSpPr>
        <p:spPr>
          <a:xfrm>
            <a:off x="4800600" y="4267080"/>
            <a:ext cx="1752480" cy="12956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8"/>
          <p:cNvSpPr/>
          <p:nvPr/>
        </p:nvSpPr>
        <p:spPr>
          <a:xfrm>
            <a:off x="6513480" y="5029200"/>
            <a:ext cx="420840" cy="426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9"/>
          <p:cNvSpPr/>
          <p:nvPr/>
        </p:nvSpPr>
        <p:spPr>
          <a:xfrm>
            <a:off x="6724800" y="5384880"/>
            <a:ext cx="0" cy="3556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0"/>
          <p:cNvSpPr/>
          <p:nvPr/>
        </p:nvSpPr>
        <p:spPr>
          <a:xfrm flipH="1">
            <a:off x="6582960" y="5740560"/>
            <a:ext cx="141480" cy="3553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1"/>
          <p:cNvSpPr/>
          <p:nvPr/>
        </p:nvSpPr>
        <p:spPr>
          <a:xfrm>
            <a:off x="6724800" y="5740560"/>
            <a:ext cx="139680" cy="3553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 flipH="1" flipV="1">
            <a:off x="6513120" y="5527800"/>
            <a:ext cx="211320" cy="698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3"/>
          <p:cNvSpPr/>
          <p:nvPr/>
        </p:nvSpPr>
        <p:spPr>
          <a:xfrm flipV="1">
            <a:off x="6724800" y="5527800"/>
            <a:ext cx="209520" cy="698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ff"/>
                </a:solidFill>
                <a:latin typeface="Futura"/>
                <a:ea typeface="Titr"/>
              </a:rPr>
              <a:t>            دليل </a:t>
            </a:r>
            <a:r>
              <a:rPr b="0" lang="fa-IR" sz="4400" spc="-1" strike="noStrike">
                <a:solidFill>
                  <a:srgbClr val="ffffff"/>
                </a:solidFill>
                <a:latin typeface="Futura"/>
                <a:ea typeface="Titr"/>
              </a:rPr>
              <a:t>2</a:t>
            </a:r>
            <a:r>
              <a:rPr b="0" lang="fa-IR" sz="4400" spc="-1" strike="noStrike">
                <a:solidFill>
                  <a:srgbClr val="ffffff"/>
                </a:solidFill>
                <a:latin typeface="Futura"/>
                <a:ea typeface="Titr"/>
              </a:rPr>
              <a:t>                                  </a:t>
            </a:r>
            <a:r>
              <a:rPr b="0" lang="fa-IR" sz="4400" spc="-1" strike="noStrike">
                <a:solidFill>
                  <a:srgbClr val="00ff00"/>
                </a:solidFill>
                <a:latin typeface="Futura"/>
                <a:cs typeface="Titr"/>
              </a:rPr>
              <a:t>قحط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6"/>
          <p:cNvSpPr/>
          <p:nvPr/>
        </p:nvSpPr>
        <p:spPr>
          <a:xfrm>
            <a:off x="2941560" y="974880"/>
            <a:ext cx="3230640" cy="32716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7"/>
          <p:cNvGrpSpPr/>
          <p:nvPr/>
        </p:nvGrpSpPr>
        <p:grpSpPr>
          <a:xfrm>
            <a:off x="2941560" y="974880"/>
            <a:ext cx="3230640" cy="3271680"/>
            <a:chOff x="2941560" y="974880"/>
            <a:chExt cx="3230640" cy="3271680"/>
          </a:xfrm>
        </p:grpSpPr>
        <p:sp>
          <p:nvSpPr>
            <p:cNvPr id="110" name="Oval 12"/>
            <p:cNvSpPr/>
            <p:nvPr/>
          </p:nvSpPr>
          <p:spPr>
            <a:xfrm>
              <a:off x="2941560" y="974880"/>
              <a:ext cx="3230640" cy="3271680"/>
            </a:xfrm>
            <a:prstGeom prst="ellipse">
              <a:avLst/>
            </a:prstGeom>
            <a:noFill/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4"/>
            <p:cNvSpPr/>
            <p:nvPr/>
          </p:nvSpPr>
          <p:spPr>
            <a:xfrm>
              <a:off x="3170160" y="1566720"/>
              <a:ext cx="281952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400" spc="-1" strike="noStrike">
                  <a:solidFill>
                    <a:srgbClr val="00ff00"/>
                  </a:solidFill>
                  <a:latin typeface="Futura"/>
                  <a:cs typeface="Zar"/>
                </a:rPr>
                <a:t>در جهان برا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400" spc="-1" strike="noStrike">
                  <a:solidFill>
                    <a:srgbClr val="00ff00"/>
                  </a:solidFill>
                  <a:latin typeface="Futura"/>
                  <a:cs typeface="Zar"/>
                </a:rPr>
                <a:t>تغذيه همه انسانها به اندازه کافي غذا وجود دارد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400" spc="-1" strike="noStrike">
                  <a:solidFill>
                    <a:srgbClr val="01bd04"/>
                  </a:solidFill>
                  <a:latin typeface="Futura"/>
                  <a:cs typeface="Zar"/>
                </a:rPr>
                <a:t>اما چرا بيش از </a:t>
              </a:r>
              <a:r>
                <a:rPr b="0" lang="fa-IR" sz="2400" spc="-1" strike="noStrike">
                  <a:solidFill>
                    <a:srgbClr val="ffffff"/>
                  </a:solidFill>
                  <a:latin typeface="Futura"/>
                  <a:ea typeface="Zar"/>
                </a:rPr>
                <a:t>840</a:t>
              </a:r>
              <a:r>
                <a:rPr b="0" lang="fa-IR" sz="2400" spc="-1" strike="noStrike">
                  <a:solidFill>
                    <a:srgbClr val="ffffff"/>
                  </a:solidFill>
                  <a:latin typeface="Futura"/>
                  <a:ea typeface="Zar"/>
                </a:rPr>
                <a:t> ميليون</a:t>
              </a:r>
              <a:r>
                <a:rPr b="0" lang="fa-IR" sz="2400" spc="-1" strike="noStrike">
                  <a:solidFill>
                    <a:srgbClr val="01bd04"/>
                  </a:solidFill>
                  <a:latin typeface="Futura"/>
                  <a:ea typeface="Zar"/>
                </a:rPr>
                <a:t> انسان هنوز گرسنه هستند</a:t>
              </a:r>
              <a:r>
                <a:rPr b="0" lang="fa-IR" sz="2400" spc="-1" strike="noStrike">
                  <a:solidFill>
                    <a:srgbClr val="ffffff"/>
                  </a:solidFill>
                  <a:latin typeface="Futura"/>
                  <a:cs typeface="Zar"/>
                </a:rPr>
                <a:t>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" name="Picture 17" descr="http://www.mamasminerals.com/Merchant2/graphics/00000001/b.white.alabaster.bowl.sm.jpg"/>
          <p:cNvPicPr/>
          <p:nvPr/>
        </p:nvPicPr>
        <p:blipFill>
          <a:blip r:embed="rId1"/>
          <a:stretch/>
        </p:blipFill>
        <p:spPr>
          <a:xfrm>
            <a:off x="5943600" y="525780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113" name="Line 15"/>
          <p:cNvSpPr/>
          <p:nvPr/>
        </p:nvSpPr>
        <p:spPr>
          <a:xfrm>
            <a:off x="4800600" y="4267080"/>
            <a:ext cx="1752480" cy="12956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1143000" y="762120"/>
            <a:ext cx="70102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ff00"/>
                </a:solidFill>
                <a:latin typeface="Futura"/>
                <a:cs typeface="Titr"/>
              </a:rPr>
              <a:t>در يک جريب مرتع تنها مي توان </a:t>
            </a:r>
            <a:r>
              <a:rPr b="0" lang="fa-IR" sz="2000" spc="-1" strike="noStrike">
                <a:solidFill>
                  <a:srgbClr val="00ff00"/>
                </a:solidFill>
                <a:latin typeface="Futura"/>
                <a:ea typeface="Titr"/>
              </a:rPr>
              <a:t>165</a:t>
            </a:r>
            <a:r>
              <a:rPr b="0" lang="fa-IR" sz="2000" spc="-1" strike="noStrike">
                <a:solidFill>
                  <a:srgbClr val="00ff00"/>
                </a:solidFill>
                <a:latin typeface="Futura"/>
                <a:ea typeface="Titr"/>
              </a:rPr>
              <a:t> پوند گوشت توليد کر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Futura"/>
                <a:cs typeface="Titr"/>
              </a:rPr>
              <a:t>در حالي که در همين مقدار زمين مي</a:t>
            </a:r>
            <a:r>
              <a:rPr b="0" lang="fa-IR" sz="100" spc="-1" strike="noStrike">
                <a:solidFill>
                  <a:srgbClr val="ffffff"/>
                </a:solidFill>
                <a:latin typeface="Futura"/>
                <a:ea typeface="Titr"/>
              </a:rPr>
              <a:t> </a:t>
            </a:r>
            <a:r>
              <a:rPr b="0" lang="fa-IR" sz="2000" spc="-1" strike="noStrike">
                <a:solidFill>
                  <a:srgbClr val="ffffff"/>
                </a:solidFill>
                <a:latin typeface="Futura"/>
                <a:cs typeface="Titr"/>
              </a:rPr>
              <a:t>توان </a:t>
            </a:r>
            <a:r>
              <a:rPr b="0" lang="fa-IR" sz="2000" spc="-1" strike="noStrike">
                <a:solidFill>
                  <a:srgbClr val="ffffff"/>
                </a:solidFill>
                <a:latin typeface="Futura"/>
                <a:ea typeface="Titr"/>
              </a:rPr>
              <a:t>20000</a:t>
            </a:r>
            <a:r>
              <a:rPr b="0" lang="fa-IR" sz="2000" spc="-1" strike="noStrike">
                <a:solidFill>
                  <a:srgbClr val="ffffff"/>
                </a:solidFill>
                <a:latin typeface="Futura"/>
                <a:ea typeface="Titr"/>
              </a:rPr>
              <a:t> پوند سيب زميني توليد ک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9" descr="http://www.mamasminerals.com/Merchant2/graphics/00000001/b.white.alabaster.bowl.sm.jpg"/>
          <p:cNvPicPr/>
          <p:nvPr/>
        </p:nvPicPr>
        <p:blipFill>
          <a:blip r:embed="rId1"/>
          <a:stretch/>
        </p:blipFill>
        <p:spPr>
          <a:xfrm>
            <a:off x="2514600" y="2666880"/>
            <a:ext cx="39625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1447920" y="1828800"/>
            <a:ext cx="62481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ff00"/>
                </a:solidFill>
                <a:latin typeface="Futura"/>
                <a:cs typeface="Titr"/>
              </a:rPr>
              <a:t>اگر مردم آمريکا تنها </a:t>
            </a:r>
            <a:r>
              <a:rPr b="0" lang="fa-IR" sz="2000" spc="-1" strike="noStrike">
                <a:solidFill>
                  <a:srgbClr val="ffffff"/>
                </a:solidFill>
                <a:latin typeface="Futura"/>
                <a:ea typeface="Titr"/>
              </a:rPr>
              <a:t>10</a:t>
            </a:r>
            <a:r>
              <a:rPr b="0" lang="fa-IR" sz="2000" spc="-1" strike="noStrike">
                <a:solidFill>
                  <a:srgbClr val="ffffff"/>
                </a:solidFill>
                <a:latin typeface="Futura"/>
                <a:ea typeface="Titr"/>
              </a:rPr>
              <a:t> %</a:t>
            </a:r>
            <a:r>
              <a:rPr b="0" lang="fa-IR" sz="2000" spc="-1" strike="noStrike">
                <a:solidFill>
                  <a:srgbClr val="00ff00"/>
                </a:solidFill>
                <a:latin typeface="Futura"/>
                <a:ea typeface="Titr"/>
              </a:rPr>
              <a:t> کمتر گوشت مي خوردند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Futura"/>
                <a:ea typeface="Titr"/>
              </a:rPr>
              <a:t>12</a:t>
            </a:r>
            <a:r>
              <a:rPr b="0" lang="fa-IR" sz="2000" spc="-1" strike="noStrike">
                <a:solidFill>
                  <a:srgbClr val="ffffff"/>
                </a:solidFill>
                <a:latin typeface="Futura"/>
                <a:ea typeface="Titr"/>
              </a:rPr>
              <a:t> ميليون تن</a:t>
            </a:r>
            <a:r>
              <a:rPr b="0" lang="fa-IR" sz="2000" spc="-1" strike="noStrike">
                <a:solidFill>
                  <a:srgbClr val="00ff00"/>
                </a:solidFill>
                <a:latin typeface="Futura"/>
                <a:ea typeface="Titr"/>
              </a:rPr>
              <a:t> حبوبات مي توانست بجاي اين مقدار گوشت توليد گرد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9" descr="http://www.mamasminerals.com/Merchant2/graphics/00000001/b.white.alabaster.bowl.sm.jpg"/>
          <p:cNvPicPr/>
          <p:nvPr/>
        </p:nvPicPr>
        <p:blipFill>
          <a:blip r:embed="rId1"/>
          <a:stretch/>
        </p:blipFill>
        <p:spPr>
          <a:xfrm>
            <a:off x="2514600" y="2666880"/>
            <a:ext cx="39625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9" descr="http://www.mamasminerals.com/Merchant2/graphics/00000001/b.white.alabaster.bowl.sm.jpg"/>
          <p:cNvPicPr/>
          <p:nvPr/>
        </p:nvPicPr>
        <p:blipFill>
          <a:blip r:embed="rId1"/>
          <a:stretch/>
        </p:blipFill>
        <p:spPr>
          <a:xfrm>
            <a:off x="2514600" y="2666880"/>
            <a:ext cx="3962520" cy="39625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2895480" y="2403360"/>
            <a:ext cx="327672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Futura"/>
                <a:ea typeface="Titr"/>
              </a:rPr>
              <a:t>60</a:t>
            </a:r>
            <a:r>
              <a:rPr b="0" lang="fa-IR" sz="2000" spc="-1" strike="noStrike">
                <a:solidFill>
                  <a:srgbClr val="ffffff"/>
                </a:solidFill>
                <a:latin typeface="Futura"/>
                <a:ea typeface="Titr"/>
              </a:rPr>
              <a:t> ميليون انسا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ff00"/>
                </a:solidFill>
                <a:latin typeface="Futura"/>
                <a:cs typeface="Titr"/>
              </a:rPr>
              <a:t>در هر سال از گرسنگي مي</a:t>
            </a:r>
            <a:r>
              <a:rPr b="0" lang="fa-IR" sz="100" spc="-1" strike="noStrike">
                <a:solidFill>
                  <a:srgbClr val="00ff00"/>
                </a:solidFill>
                <a:latin typeface="Futura"/>
                <a:cs typeface="Titr"/>
              </a:rPr>
              <a:t>ج</a:t>
            </a:r>
            <a:r>
              <a:rPr b="0" lang="fa-IR" sz="2000" spc="-1" strike="noStrike">
                <a:solidFill>
                  <a:srgbClr val="00ff00"/>
                </a:solidFill>
                <a:latin typeface="Futura"/>
                <a:cs typeface="Titr"/>
              </a:rPr>
              <a:t>ميرن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Futura"/>
                <a:cs typeface="Titr"/>
              </a:rPr>
              <a:t>تنها به اين دليل که غذاي کافي براي خوردن ندارن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4"/>
          <p:cNvSpPr/>
          <p:nvPr/>
        </p:nvSpPr>
        <p:spPr>
          <a:xfrm>
            <a:off x="4800600" y="4267080"/>
            <a:ext cx="2514600" cy="12956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5"/>
          <p:cNvSpPr/>
          <p:nvPr/>
        </p:nvSpPr>
        <p:spPr>
          <a:xfrm>
            <a:off x="7275600" y="5029200"/>
            <a:ext cx="420480" cy="426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6"/>
          <p:cNvSpPr/>
          <p:nvPr/>
        </p:nvSpPr>
        <p:spPr>
          <a:xfrm>
            <a:off x="7486560" y="5384880"/>
            <a:ext cx="0" cy="3556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7"/>
          <p:cNvSpPr/>
          <p:nvPr/>
        </p:nvSpPr>
        <p:spPr>
          <a:xfrm flipH="1">
            <a:off x="7345440" y="5740560"/>
            <a:ext cx="141120" cy="3553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8"/>
          <p:cNvSpPr/>
          <p:nvPr/>
        </p:nvSpPr>
        <p:spPr>
          <a:xfrm>
            <a:off x="7486560" y="5740560"/>
            <a:ext cx="139680" cy="3553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9"/>
          <p:cNvSpPr/>
          <p:nvPr/>
        </p:nvSpPr>
        <p:spPr>
          <a:xfrm flipH="1" flipV="1">
            <a:off x="7275600" y="5527800"/>
            <a:ext cx="210960" cy="698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0"/>
          <p:cNvSpPr/>
          <p:nvPr/>
        </p:nvSpPr>
        <p:spPr>
          <a:xfrm flipV="1">
            <a:off x="7486560" y="5527800"/>
            <a:ext cx="209520" cy="698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2"/>
          <p:cNvSpPr/>
          <p:nvPr/>
        </p:nvSpPr>
        <p:spPr>
          <a:xfrm>
            <a:off x="2941560" y="974880"/>
            <a:ext cx="3230640" cy="32716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4"/>
          <p:cNvSpPr/>
          <p:nvPr/>
        </p:nvSpPr>
        <p:spPr>
          <a:xfrm>
            <a:off x="468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ff"/>
                </a:solidFill>
                <a:latin typeface="Futura"/>
                <a:ea typeface="Titr"/>
              </a:rPr>
              <a:t>           دليل </a:t>
            </a:r>
            <a:r>
              <a:rPr b="0" lang="fa-IR" sz="4400" spc="-1" strike="noStrike">
                <a:solidFill>
                  <a:srgbClr val="ffffff"/>
                </a:solidFill>
                <a:latin typeface="Futura"/>
                <a:ea typeface="Titr"/>
              </a:rPr>
              <a:t>2</a:t>
            </a:r>
            <a:r>
              <a:rPr b="0" lang="fa-IR" sz="4400" spc="-1" strike="noStrike">
                <a:solidFill>
                  <a:srgbClr val="ffffff"/>
                </a:solidFill>
                <a:latin typeface="Futura"/>
                <a:ea typeface="Titr"/>
              </a:rPr>
              <a:t>                                  </a:t>
            </a:r>
            <a:r>
              <a:rPr b="0" lang="fa-IR" sz="4400" spc="-1" strike="noStrike">
                <a:solidFill>
                  <a:srgbClr val="00ff00"/>
                </a:solidFill>
                <a:latin typeface="Futura"/>
                <a:ea typeface="Titr"/>
              </a:rPr>
              <a:t> سلامت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9"/>
          <p:cNvSpPr/>
          <p:nvPr/>
        </p:nvSpPr>
        <p:spPr>
          <a:xfrm>
            <a:off x="152280" y="457200"/>
            <a:ext cx="502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Futura"/>
                <a:cs typeface="Titr"/>
              </a:rPr>
              <a:t>انجمن رژيم غذايي آمريکا اعلام کرده است که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24"/>
          <p:cNvSpPr/>
          <p:nvPr/>
        </p:nvSpPr>
        <p:spPr>
          <a:xfrm>
            <a:off x="3581280" y="1066680"/>
            <a:ext cx="5486400" cy="54104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WordArt 20" descr=""/>
          <p:cNvPicPr/>
          <p:nvPr/>
        </p:nvPicPr>
        <p:blipFill>
          <a:blip r:embed="rId2"/>
          <a:stretch/>
        </p:blipFill>
        <p:spPr>
          <a:xfrm>
            <a:off x="4181400" y="2279520"/>
            <a:ext cx="3828960" cy="2835360"/>
          </a:xfrm>
          <a:prstGeom prst="rect">
            <a:avLst/>
          </a:prstGeom>
          <a:ln w="0">
            <a:noFill/>
          </a:ln>
        </p:spPr>
      </p:pic>
      <p:sp>
        <p:nvSpPr>
          <p:cNvPr id="142" name="Line 25"/>
          <p:cNvSpPr/>
          <p:nvPr/>
        </p:nvSpPr>
        <p:spPr>
          <a:xfrm>
            <a:off x="0" y="3657600"/>
            <a:ext cx="3581280" cy="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12"/>
          <p:cNvSpPr/>
          <p:nvPr/>
        </p:nvSpPr>
        <p:spPr>
          <a:xfrm>
            <a:off x="76320" y="1066680"/>
            <a:ext cx="5486400" cy="54104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3"/>
          <p:cNvSpPr/>
          <p:nvPr/>
        </p:nvSpPr>
        <p:spPr>
          <a:xfrm>
            <a:off x="5562720" y="3657600"/>
            <a:ext cx="3581280" cy="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8"/>
          <p:cNvSpPr/>
          <p:nvPr/>
        </p:nvSpPr>
        <p:spPr>
          <a:xfrm>
            <a:off x="7162920" y="1905120"/>
            <a:ext cx="1985760" cy="17524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9"/>
          <p:cNvSpPr/>
          <p:nvPr/>
        </p:nvSpPr>
        <p:spPr>
          <a:xfrm>
            <a:off x="5562720" y="380880"/>
            <a:ext cx="1828800" cy="18288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0"/>
          <p:cNvSpPr/>
          <p:nvPr/>
        </p:nvSpPr>
        <p:spPr>
          <a:xfrm>
            <a:off x="762120" y="2073240"/>
            <a:ext cx="4190760" cy="37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Futura"/>
                <a:cs typeface="Zar"/>
              </a:rPr>
              <a:t>از ديگر مزاياي گياهخوار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Futura"/>
                <a:cs typeface="Zar"/>
              </a:rPr>
              <a:t>کنترل وزن مي</a:t>
            </a:r>
            <a:r>
              <a:rPr b="1" lang="fa-IR" sz="100" spc="-1" strike="noStrike">
                <a:solidFill>
                  <a:srgbClr val="000000"/>
                </a:solidFill>
                <a:latin typeface="Futura"/>
                <a:ea typeface="Zar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Futura"/>
                <a:cs typeface="Zar"/>
              </a:rPr>
              <a:t>باش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Futura"/>
                <a:cs typeface="Zar"/>
              </a:rPr>
              <a:t>انسان</a:t>
            </a:r>
            <a:r>
              <a:rPr b="1" lang="fa-IR" sz="100" spc="-1" strike="noStrike">
                <a:solidFill>
                  <a:srgbClr val="000000"/>
                </a:solidFill>
                <a:latin typeface="Futura"/>
                <a:ea typeface="Zar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Futura"/>
                <a:cs typeface="Zar"/>
              </a:rPr>
              <a:t>هاي گياهخوار عموما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Futura"/>
                <a:cs typeface="Zar"/>
              </a:rPr>
              <a:t>خوش اندام</a:t>
            </a:r>
            <a:r>
              <a:rPr b="1" lang="fa-IR" sz="100" spc="-1" strike="noStrike">
                <a:solidFill>
                  <a:srgbClr val="000000"/>
                </a:solidFill>
                <a:latin typeface="Futura"/>
                <a:ea typeface="Zar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Futura"/>
                <a:cs typeface="Zar"/>
              </a:rPr>
              <a:t>تر از افرادي هستند که ا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Futura"/>
                <a:cs typeface="Zar"/>
              </a:rPr>
              <a:t>رژيم</a:t>
            </a:r>
            <a:r>
              <a:rPr b="1" lang="fa-IR" sz="100" spc="-1" strike="noStrike">
                <a:solidFill>
                  <a:srgbClr val="000000"/>
                </a:solidFill>
                <a:latin typeface="Futura"/>
                <a:ea typeface="Zar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Futura"/>
                <a:cs typeface="Zar"/>
              </a:rPr>
              <a:t>هاي شامل گوشت استفاده مي</a:t>
            </a:r>
            <a:r>
              <a:rPr b="1" lang="fa-IR" sz="100" spc="-1" strike="noStrike">
                <a:solidFill>
                  <a:srgbClr val="000000"/>
                </a:solidFill>
                <a:latin typeface="Futura"/>
                <a:ea typeface="Zar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Futura"/>
                <a:cs typeface="Zar"/>
              </a:rPr>
              <a:t>کنند 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Futura"/>
                <a:cs typeface="Zar"/>
              </a:rPr>
              <a:t>کمتر شبيه انسان</a:t>
            </a:r>
            <a:r>
              <a:rPr b="1" lang="fa-IR" sz="100" spc="-1" strike="noStrike">
                <a:solidFill>
                  <a:srgbClr val="000000"/>
                </a:solidFill>
                <a:latin typeface="Futura"/>
                <a:ea typeface="Zar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Futura"/>
                <a:cs typeface="Zar"/>
              </a:rPr>
              <a:t>ها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Futura"/>
                <a:cs typeface="Zar"/>
              </a:rPr>
              <a:t>چاق و فربه هستن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1"/>
          <p:cNvSpPr/>
          <p:nvPr/>
        </p:nvSpPr>
        <p:spPr>
          <a:xfrm>
            <a:off x="5791320" y="609480"/>
            <a:ext cx="14475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Futura"/>
                <a:cs typeface="Zar"/>
              </a:rPr>
              <a:t>در رژيم</a:t>
            </a:r>
            <a:r>
              <a:rPr b="1" lang="fa-IR" sz="100" spc="-1" strike="noStrike">
                <a:solidFill>
                  <a:srgbClr val="000000"/>
                </a:solidFill>
                <a:latin typeface="Futura"/>
                <a:ea typeface="Zar"/>
              </a:rPr>
              <a:t> </a:t>
            </a:r>
            <a:r>
              <a:rPr b="1" lang="fa-IR" sz="1400" spc="-1" strike="noStrike">
                <a:solidFill>
                  <a:srgbClr val="000000"/>
                </a:solidFill>
                <a:latin typeface="Futura"/>
                <a:cs typeface="Zar"/>
              </a:rPr>
              <a:t>هاي گياهخواري به طور طبيعي چربي</a:t>
            </a:r>
            <a:r>
              <a:rPr b="1" lang="fa-IR" sz="100" spc="-1" strike="noStrike">
                <a:solidFill>
                  <a:srgbClr val="000000"/>
                </a:solidFill>
                <a:latin typeface="Futura"/>
                <a:ea typeface="Zar"/>
              </a:rPr>
              <a:t> </a:t>
            </a:r>
            <a:r>
              <a:rPr b="1" lang="fa-IR" sz="1400" spc="-1" strike="noStrike">
                <a:solidFill>
                  <a:srgbClr val="000000"/>
                </a:solidFill>
                <a:latin typeface="Futura"/>
                <a:cs typeface="Zar"/>
              </a:rPr>
              <a:t>هاي اشباع شده کم و چربي</a:t>
            </a:r>
            <a:r>
              <a:rPr b="1" lang="fa-IR" sz="100" spc="-1" strike="noStrike">
                <a:solidFill>
                  <a:srgbClr val="000000"/>
                </a:solidFill>
                <a:latin typeface="Futura"/>
                <a:ea typeface="Zar"/>
              </a:rPr>
              <a:t> </a:t>
            </a:r>
            <a:r>
              <a:rPr b="1" lang="fa-IR" sz="1400" spc="-1" strike="noStrike">
                <a:solidFill>
                  <a:srgbClr val="000000"/>
                </a:solidFill>
                <a:latin typeface="Futura"/>
                <a:cs typeface="Zar"/>
              </a:rPr>
              <a:t>هاي غير اشباع زياد است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9"/>
          <p:cNvSpPr/>
          <p:nvPr/>
        </p:nvSpPr>
        <p:spPr>
          <a:xfrm>
            <a:off x="1828800" y="380880"/>
            <a:ext cx="5486400" cy="5410440"/>
          </a:xfrm>
          <a:prstGeom prst="ellipse">
            <a:avLst/>
          </a:prstGeom>
          <a:noFill/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0"/>
          <p:cNvSpPr/>
          <p:nvPr/>
        </p:nvSpPr>
        <p:spPr>
          <a:xfrm>
            <a:off x="4572000" y="5791320"/>
            <a:ext cx="0" cy="1066680"/>
          </a:xfrm>
          <a:prstGeom prst="line">
            <a:avLst/>
          </a:prstGeom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2362320" y="984240"/>
            <a:ext cx="4343400" cy="49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Futura"/>
                <a:ea typeface="Zar"/>
              </a:rPr>
              <a:t>FLEXITAR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Futura"/>
                <a:cs typeface="Zar"/>
              </a:rPr>
              <a:t>افرادي که اغلب از رژيم سبزيجات استفاده مي</a:t>
            </a:r>
            <a:r>
              <a:rPr b="1" lang="fa-IR" sz="100" spc="-1" strike="noStrike">
                <a:solidFill>
                  <a:srgbClr val="ffffff"/>
                </a:solidFill>
                <a:latin typeface="Futura"/>
                <a:ea typeface="Zar"/>
              </a:rPr>
              <a:t> </a:t>
            </a:r>
            <a:r>
              <a:rPr b="1" lang="fa-IR" sz="1800" spc="-1" strike="noStrike">
                <a:solidFill>
                  <a:srgbClr val="ffffff"/>
                </a:solidFill>
                <a:latin typeface="Futura"/>
                <a:cs typeface="Zar"/>
              </a:rPr>
              <a:t>کنند، اما گاهي هم از گوشت تغذيه مي</a:t>
            </a:r>
            <a:r>
              <a:rPr b="1" lang="fa-IR" sz="100" spc="-1" strike="noStrike">
                <a:solidFill>
                  <a:srgbClr val="ffffff"/>
                </a:solidFill>
                <a:latin typeface="Futura"/>
                <a:ea typeface="Zar"/>
              </a:rPr>
              <a:t> </a:t>
            </a:r>
            <a:r>
              <a:rPr b="1" lang="fa-IR" sz="1800" spc="-1" strike="noStrike">
                <a:solidFill>
                  <a:srgbClr val="ffffff"/>
                </a:solidFill>
                <a:latin typeface="Futura"/>
                <a:cs typeface="Zar"/>
              </a:rPr>
              <a:t>کنن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Futura"/>
                <a:ea typeface="Zar"/>
              </a:rPr>
              <a:t>LACTO-OVO VEGETAR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Futura"/>
                <a:cs typeface="Zar"/>
              </a:rPr>
              <a:t>افراي که از گوشت گاو، خوک، ماکيان، ماهي، نرم تن</a:t>
            </a:r>
            <a:r>
              <a:rPr b="1" lang="fa-IR" sz="100" spc="-1" strike="noStrike">
                <a:solidFill>
                  <a:srgbClr val="ffffff"/>
                </a:solidFill>
                <a:latin typeface="Futura"/>
                <a:ea typeface="Zar"/>
              </a:rPr>
              <a:t> </a:t>
            </a:r>
            <a:r>
              <a:rPr b="1" lang="fa-IR" sz="1800" spc="-1" strike="noStrike">
                <a:solidFill>
                  <a:srgbClr val="ffffff"/>
                </a:solidFill>
                <a:latin typeface="Futura"/>
                <a:cs typeface="Zar"/>
              </a:rPr>
              <a:t>صدف</a:t>
            </a:r>
            <a:r>
              <a:rPr b="1" lang="fa-IR" sz="100" spc="-1" strike="noStrike">
                <a:solidFill>
                  <a:srgbClr val="ffffff"/>
                </a:solidFill>
                <a:latin typeface="Futura"/>
                <a:ea typeface="Zar"/>
              </a:rPr>
              <a:t> </a:t>
            </a:r>
            <a:r>
              <a:rPr b="1" lang="fa-IR" sz="1800" spc="-1" strike="noStrike">
                <a:solidFill>
                  <a:srgbClr val="ffffff"/>
                </a:solidFill>
                <a:latin typeface="Futura"/>
                <a:cs typeface="Zar"/>
              </a:rPr>
              <a:t>دار و ساير حيوانات استفاده نمي</a:t>
            </a:r>
            <a:r>
              <a:rPr b="1" lang="fa-IR" sz="100" spc="-1" strike="noStrike">
                <a:solidFill>
                  <a:srgbClr val="ffffff"/>
                </a:solidFill>
                <a:latin typeface="Futura"/>
                <a:ea typeface="Zar"/>
              </a:rPr>
              <a:t> </a:t>
            </a:r>
            <a:r>
              <a:rPr b="1" lang="fa-IR" sz="1800" spc="-1" strike="noStrike">
                <a:solidFill>
                  <a:srgbClr val="ffffff"/>
                </a:solidFill>
                <a:latin typeface="Futura"/>
                <a:cs typeface="Zar"/>
              </a:rPr>
              <a:t>کنند اما در رژيمشان تخم مرغ و لبنيات وجود دار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Futura"/>
                <a:ea typeface="Zar"/>
              </a:rPr>
              <a:t>VEG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Futura"/>
                <a:cs typeface="Zar"/>
              </a:rPr>
              <a:t>افرادي که از هيچ نوع گوشت حيواني، تخم مرغ، لبنيات و ساير فرآورده</a:t>
            </a:r>
            <a:r>
              <a:rPr b="1" lang="fa-IR" sz="100" spc="-1" strike="noStrike">
                <a:solidFill>
                  <a:srgbClr val="ffffff"/>
                </a:solidFill>
                <a:latin typeface="Futura"/>
                <a:ea typeface="Zar"/>
              </a:rPr>
              <a:t> </a:t>
            </a:r>
            <a:r>
              <a:rPr b="1" lang="fa-IR" sz="1800" spc="-1" strike="noStrike">
                <a:solidFill>
                  <a:srgbClr val="ffffff"/>
                </a:solidFill>
                <a:latin typeface="Futura"/>
                <a:cs typeface="Zar"/>
              </a:rPr>
              <a:t>هايي که از حيوانات بدست مي</a:t>
            </a:r>
            <a:r>
              <a:rPr b="1" lang="fa-IR" sz="100" spc="-1" strike="noStrike">
                <a:solidFill>
                  <a:srgbClr val="ffffff"/>
                </a:solidFill>
                <a:latin typeface="Futura"/>
                <a:ea typeface="Zar"/>
              </a:rPr>
              <a:t> </a:t>
            </a:r>
            <a:r>
              <a:rPr b="1" lang="fa-IR" sz="1800" spc="-1" strike="noStrike">
                <a:solidFill>
                  <a:srgbClr val="ffffff"/>
                </a:solidFill>
                <a:latin typeface="Futura"/>
                <a:cs typeface="Zar"/>
              </a:rPr>
              <a:t>آيد، استفاده نمي</a:t>
            </a:r>
            <a:r>
              <a:rPr b="1" lang="fa-IR" sz="100" spc="-1" strike="noStrike">
                <a:solidFill>
                  <a:srgbClr val="ffffff"/>
                </a:solidFill>
                <a:latin typeface="Futura"/>
                <a:ea typeface="Zar"/>
              </a:rPr>
              <a:t> </a:t>
            </a:r>
            <a:r>
              <a:rPr b="1" lang="fa-IR" sz="1800" spc="-1" strike="noStrike">
                <a:solidFill>
                  <a:srgbClr val="ffffff"/>
                </a:solidFill>
                <a:latin typeface="Futura"/>
                <a:cs typeface="Zar"/>
              </a:rPr>
              <a:t>کنن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  <a:ea typeface="Titr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  <a:ea typeface="Titr"/>
              </a:rPr>
              <a:t>	</a:t>
            </a:r>
            <a:r>
              <a:rPr b="0" lang="fa-IR" sz="2000" spc="-1" strike="noStrike">
                <a:solidFill>
                  <a:srgbClr val="ffffff"/>
                </a:solidFill>
                <a:latin typeface="Futura"/>
                <a:cs typeface="Titr"/>
              </a:rPr>
              <a:t>چرا بايد</a:t>
            </a:r>
            <a:r>
              <a:rPr b="0" lang="fa-IR" sz="2000" spc="-1" strike="noStrike">
                <a:solidFill>
                  <a:srgbClr val="00ff00"/>
                </a:solidFill>
                <a:latin typeface="Futura"/>
                <a:ea typeface="Titr"/>
              </a:rPr>
              <a:t> گياهخوار </a:t>
            </a:r>
            <a:r>
              <a:rPr b="0" lang="fa-IR" sz="2000" spc="-1" strike="noStrike">
                <a:solidFill>
                  <a:srgbClr val="ffffff"/>
                </a:solidFill>
                <a:latin typeface="Futura"/>
                <a:cs typeface="Titr"/>
              </a:rPr>
              <a:t>شد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  <a:ea typeface="Titr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  <a:ea typeface="Titr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  <a:ea typeface="Titr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  <a:ea typeface="Titr"/>
              </a:rPr>
              <a:t>	</a:t>
            </a:r>
            <a:r>
              <a:rPr b="0" lang="fa-IR" sz="2000" spc="-1" strike="noStrike">
                <a:solidFill>
                  <a:srgbClr val="ffffff"/>
                </a:solidFill>
                <a:latin typeface="Futura"/>
                <a:cs typeface="Titr"/>
              </a:rPr>
              <a:t>براي محيط زيست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  <a:ea typeface="Titr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  <a:ea typeface="Titr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  <a:ea typeface="Titr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  <a:ea typeface="Titr"/>
              </a:rPr>
              <a:t>	</a:t>
            </a:r>
            <a:r>
              <a:rPr b="0" lang="fa-IR" sz="2000" spc="-1" strike="noStrike">
                <a:solidFill>
                  <a:srgbClr val="ffffff"/>
                </a:solidFill>
                <a:latin typeface="Futura"/>
                <a:cs typeface="Titr"/>
              </a:rPr>
              <a:t>براي </a:t>
            </a:r>
            <a:r>
              <a:rPr b="0" lang="fa-IR" sz="2000" spc="-1" strike="noStrike">
                <a:solidFill>
                  <a:srgbClr val="00ff00"/>
                </a:solidFill>
                <a:latin typeface="Futura"/>
                <a:cs typeface="Titr"/>
              </a:rPr>
              <a:t>قحطي</a:t>
            </a:r>
            <a:r>
              <a:rPr b="0" lang="fa-IR" sz="2000" spc="-1" strike="noStrike">
                <a:solidFill>
                  <a:srgbClr val="ffffff"/>
                </a:solidFill>
                <a:latin typeface="Futura"/>
                <a:ea typeface="Titr"/>
              </a:rPr>
              <a:t> و </a:t>
            </a:r>
            <a:r>
              <a:rPr b="0" lang="fa-IR" sz="2000" spc="-1" strike="noStrike">
                <a:solidFill>
                  <a:srgbClr val="00ff00"/>
                </a:solidFill>
                <a:latin typeface="Futura"/>
                <a:cs typeface="Titr"/>
              </a:rPr>
              <a:t>گرسنگي</a:t>
            </a:r>
            <a:r>
              <a:rPr b="0" lang="fa-IR" sz="2000" spc="-1" strike="noStrike">
                <a:solidFill>
                  <a:srgbClr val="ffffff"/>
                </a:solidFill>
                <a:latin typeface="Futura"/>
                <a:cs typeface="Titr"/>
              </a:rPr>
              <a:t>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  <a:ea typeface="Titr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  <a:ea typeface="Titr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  <a:ea typeface="Titr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  <a:ea typeface="Titr"/>
              </a:rPr>
              <a:t>	</a:t>
            </a:r>
            <a:r>
              <a:rPr b="0" lang="fa-IR" sz="2000" spc="-1" strike="noStrike">
                <a:solidFill>
                  <a:srgbClr val="ffffff"/>
                </a:solidFill>
                <a:latin typeface="Futura"/>
                <a:cs typeface="Titr"/>
              </a:rPr>
              <a:t>براي </a:t>
            </a:r>
            <a:r>
              <a:rPr b="0" lang="fa-IR" sz="2000" spc="-1" strike="noStrike">
                <a:solidFill>
                  <a:srgbClr val="00ff00"/>
                </a:solidFill>
                <a:latin typeface="Futura"/>
                <a:cs typeface="Titr"/>
              </a:rPr>
              <a:t>سلامتي </a:t>
            </a:r>
            <a:r>
              <a:rPr b="0" lang="fa-IR" sz="2000" spc="-1" strike="noStrike">
                <a:solidFill>
                  <a:srgbClr val="ffffff"/>
                </a:solidFill>
                <a:latin typeface="Futura"/>
                <a:cs typeface="Titr"/>
              </a:rPr>
              <a:t>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  <a:ea typeface="Titr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  <a:ea typeface="Titr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  <a:ea typeface="Titr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  <a:ea typeface="Titr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  <a:ea typeface="Titr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  <a:ea typeface="Titr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  <a:ea typeface="Titr"/>
              </a:rPr>
              <a:t>	</a:t>
            </a:r>
            <a:r>
              <a:rPr b="0" lang="fa-IR" sz="2000" spc="-1" strike="noStrike">
                <a:solidFill>
                  <a:srgbClr val="ffffff"/>
                </a:solidFill>
                <a:latin typeface="Futura"/>
                <a:cs typeface="Titr"/>
              </a:rPr>
              <a:t>و</a:t>
            </a:r>
            <a:r>
              <a:rPr b="0" lang="fa-IR" sz="2000" spc="-1" strike="noStrike">
                <a:solidFill>
                  <a:srgbClr val="00ff00"/>
                </a:solidFill>
                <a:latin typeface="Futura"/>
                <a:ea typeface="Titr"/>
              </a:rPr>
              <a:t> چرا نه </a:t>
            </a:r>
            <a:r>
              <a:rPr b="0" lang="fa-IR" sz="2000" spc="-1" strike="noStrike">
                <a:solidFill>
                  <a:srgbClr val="ffffff"/>
                </a:solidFill>
                <a:latin typeface="Futura"/>
                <a:cs typeface="Titr"/>
              </a:rPr>
              <a:t>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  <a:ea typeface="Titr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  <a:ea typeface="Titr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  <a:ea typeface="Titr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  <a:ea typeface="Titr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  <a:ea typeface="Titr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  <a:ea typeface="Titr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Rectangle 2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  <a:ea typeface="Titr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Futura"/>
                <a:ea typeface="Titr"/>
              </a:rPr>
              <a:t>	</a:t>
            </a:r>
            <a:r>
              <a:rPr b="0" lang="fa-IR" sz="2000" spc="-1" strike="noStrike">
                <a:solidFill>
                  <a:srgbClr val="ffffff"/>
                </a:solidFill>
                <a:latin typeface="Futura"/>
                <a:cs typeface="Titr"/>
              </a:rPr>
              <a:t>شما مجبور نيستيد خوردن گوشت را کاملاً فراموش کنيد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Futura"/>
                <a:ea typeface="Titr"/>
              </a:rPr>
              <a:t>	</a:t>
            </a:r>
            <a:r>
              <a:rPr b="0" lang="fa-IR" sz="2000" spc="-1" strike="noStrike">
                <a:solidFill>
                  <a:srgbClr val="00ff00"/>
                </a:solidFill>
                <a:latin typeface="Futura"/>
                <a:cs typeface="Titr"/>
              </a:rPr>
              <a:t>اما آيا نمي توانيد مصرف گوشتتان را به فقط يک روز در هفته کاهش دهيد</a:t>
            </a:r>
            <a:r>
              <a:rPr b="0" lang="fa-IR" sz="2000" spc="-1" strike="noStrike">
                <a:solidFill>
                  <a:srgbClr val="ffffff"/>
                </a:solidFill>
                <a:latin typeface="Futura"/>
                <a:ea typeface="Titr"/>
              </a:rPr>
              <a:t> 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  <a:ea typeface="Titr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  <a:ea typeface="Titr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  <a:ea typeface="Titr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  <a:ea typeface="Titr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  <a:ea typeface="Titr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  <a:ea typeface="Titr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  <a:ea typeface="Titr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  <a:ea typeface="Titr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  <a:ea typeface="Titr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  <a:ea typeface="Titr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Futura"/>
                <a:ea typeface="Titr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Futura"/>
                <a:ea typeface="Titr"/>
              </a:rPr>
              <a:t>	</a:t>
            </a:r>
            <a:r>
              <a:rPr b="0" lang="fa-IR" sz="2400" spc="-1" strike="noStrike">
                <a:solidFill>
                  <a:srgbClr val="ffffff"/>
                </a:solidFill>
                <a:latin typeface="Futura"/>
                <a:ea typeface="Titr"/>
              </a:rPr>
              <a:t>	</a:t>
            </a:r>
            <a:r>
              <a:rPr b="0" lang="fa-IR" sz="2400" spc="-1" strike="noStrike">
                <a:solidFill>
                  <a:srgbClr val="ffffff"/>
                </a:solidFill>
                <a:latin typeface="Futura"/>
                <a:ea typeface="Titr"/>
              </a:rPr>
              <a:t>	</a:t>
            </a:r>
            <a:r>
              <a:rPr b="0" lang="fa-IR" sz="2400" spc="-1" strike="noStrike">
                <a:solidFill>
                  <a:srgbClr val="ffffff"/>
                </a:solidFill>
                <a:latin typeface="Futura"/>
                <a:ea typeface="Titr"/>
              </a:rPr>
              <a:t>	</a:t>
            </a:r>
            <a:r>
              <a:rPr b="0" lang="fa-IR" sz="2400" spc="-1" strike="noStrike">
                <a:solidFill>
                  <a:srgbClr val="ffffff"/>
                </a:solidFill>
                <a:latin typeface="Futura"/>
                <a:ea typeface="Titr"/>
              </a:rPr>
              <a:t>	</a:t>
            </a:r>
            <a:r>
              <a:rPr b="0" lang="fa-IR" sz="2400" spc="-1" strike="noStrike">
                <a:solidFill>
                  <a:srgbClr val="ffffff"/>
                </a:solidFill>
                <a:latin typeface="Futura"/>
                <a:cs typeface="Titr"/>
              </a:rPr>
              <a:t>جهاني فکر کنيد و </a:t>
            </a:r>
            <a:r>
              <a:rPr b="0" lang="fa-IR" sz="2400" spc="-1" strike="noStrike">
                <a:solidFill>
                  <a:srgbClr val="00ff00"/>
                </a:solidFill>
                <a:latin typeface="Futura"/>
                <a:cs typeface="Titr"/>
              </a:rPr>
              <a:t>خودتان عمل کنيد</a:t>
            </a:r>
            <a:r>
              <a:rPr b="0" lang="fa-IR" sz="2400" spc="-1" strike="noStrike">
                <a:solidFill>
                  <a:srgbClr val="ffffff"/>
                </a:solidFill>
                <a:latin typeface="Futura"/>
                <a:ea typeface="Tit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References</a:t>
            </a:r>
            <a:r>
              <a:rPr b="0" lang="en-US" sz="1800" spc="-1" strike="noStrike">
                <a:solidFill>
                  <a:srgbClr val="ffffff"/>
                </a:solidFill>
                <a:latin typeface="Futur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Futura"/>
              </a:rPr>
              <a:t>http://www.gove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Futura"/>
              </a:rPr>
              <a:t>http://www.howyoucansavetheworld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Futura"/>
              </a:rPr>
              <a:t>http://www.nasa.g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Futura"/>
              </a:rPr>
              <a:t>http://www.brook.com/v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Futura"/>
              </a:rPr>
              <a:t>http://www.rainforestinfo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Futura"/>
              </a:rPr>
              <a:t>*http://news.bbc.co.uk/1/hi/sci/tech/3559542.s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Futura"/>
                <a:ea typeface="Titr"/>
              </a:rPr>
              <a:t>	</a:t>
            </a:r>
            <a:r>
              <a:rPr b="0" lang="fa-IR" sz="2000" spc="-1" strike="noStrike">
                <a:solidFill>
                  <a:srgbClr val="000000"/>
                </a:solidFill>
                <a:latin typeface="Futura"/>
                <a:cs typeface="Titr"/>
              </a:rPr>
              <a:t>قبل از هرچيز بايد توجه کرد که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Futura"/>
                <a:ea typeface="Titr"/>
              </a:rPr>
              <a:t>	</a:t>
            </a:r>
            <a:r>
              <a:rPr b="0" lang="fa-IR" sz="2000" spc="-1" strike="noStrike">
                <a:solidFill>
                  <a:srgbClr val="ffffff"/>
                </a:solidFill>
                <a:latin typeface="Futura"/>
                <a:cs typeface="Titr"/>
              </a:rPr>
              <a:t>قبل از هرچيز بايد توجه کرد که ... </a:t>
            </a:r>
            <a:r>
              <a:rPr b="0" lang="fa-IR" sz="2000" spc="-1" strike="noStrike">
                <a:solidFill>
                  <a:srgbClr val="00ff00"/>
                </a:solidFill>
                <a:latin typeface="Futura"/>
                <a:cs typeface="Titr"/>
              </a:rPr>
              <a:t>هيچ گناهي وجود ندار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ff00"/>
                </a:solidFill>
                <a:latin typeface="Futura"/>
                <a:ea typeface="Titr"/>
              </a:rPr>
              <a:t>	</a:t>
            </a:r>
            <a:r>
              <a:rPr b="0" lang="fa-IR" sz="2000" spc="-1" strike="noStrike">
                <a:solidFill>
                  <a:srgbClr val="ffffff"/>
                </a:solidFill>
                <a:latin typeface="Futura"/>
                <a:cs typeface="Titr"/>
              </a:rPr>
              <a:t>که حيوانات،</a:t>
            </a:r>
            <a:r>
              <a:rPr b="0" lang="fa-IR" sz="2000" spc="-1" strike="noStrike">
                <a:solidFill>
                  <a:srgbClr val="00ff00"/>
                </a:solidFill>
                <a:latin typeface="Futura"/>
                <a:ea typeface="Titr"/>
              </a:rPr>
              <a:t> حيوانات ديگر را مي خورن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  <a:ea typeface="Titr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Futura"/>
                <a:cs typeface="Titr"/>
              </a:rPr>
              <a:t>اما  با خوردن کوشت در روزهاي  </a:t>
            </a:r>
            <a:r>
              <a:rPr b="0" lang="fa-IR" sz="2000" spc="-1" strike="noStrike">
                <a:solidFill>
                  <a:srgbClr val="00ff00"/>
                </a:solidFill>
                <a:latin typeface="Futura"/>
                <a:cs typeface="Titr"/>
              </a:rPr>
              <a:t>کمتري از يک هفته</a:t>
            </a:r>
            <a:r>
              <a:rPr b="0" lang="fa-IR" sz="2000" spc="-1" strike="noStrike">
                <a:solidFill>
                  <a:srgbClr val="00ff00"/>
                </a:solidFill>
                <a:latin typeface="Futura"/>
                <a:ea typeface="Titr"/>
              </a:rPr>
              <a:t>	</a:t>
            </a:r>
            <a:r>
              <a:rPr b="0" lang="fa-IR" sz="2000" spc="-1" strike="noStrike">
                <a:solidFill>
                  <a:srgbClr val="00ff00"/>
                </a:solidFill>
                <a:latin typeface="Futura"/>
                <a:ea typeface="Titr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Futura"/>
                <a:cs typeface="Titr"/>
              </a:rPr>
              <a:t>شما مي توانيد</a:t>
            </a:r>
            <a:r>
              <a:rPr b="0" lang="fa-IR" sz="2000" spc="-1" strike="noStrike">
                <a:solidFill>
                  <a:srgbClr val="00ff00"/>
                </a:solidFill>
                <a:latin typeface="Futura"/>
                <a:ea typeface="Titr"/>
              </a:rPr>
              <a:t> بسيار کمک کنيد</a:t>
            </a:r>
            <a:r>
              <a:rPr b="0" lang="fa-IR" sz="2000" spc="-1" strike="noStrike">
                <a:solidFill>
                  <a:srgbClr val="00ff00"/>
                </a:solidFill>
                <a:latin typeface="Futura"/>
                <a:ea typeface="Titr"/>
              </a:rPr>
              <a:t>	</a:t>
            </a:r>
            <a:r>
              <a:rPr b="0" lang="fa-IR" sz="2000" spc="-1" strike="noStrike">
                <a:solidFill>
                  <a:srgbClr val="00ff00"/>
                </a:solidFill>
                <a:latin typeface="Futura"/>
                <a:ea typeface="Titr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ff"/>
                </a:solidFill>
                <a:latin typeface="Futura"/>
                <a:ea typeface="Titr"/>
              </a:rPr>
              <a:t>        دليل </a:t>
            </a:r>
            <a:r>
              <a:rPr b="0" lang="fa-IR" sz="4400" spc="-1" strike="noStrike">
                <a:solidFill>
                  <a:srgbClr val="ffffff"/>
                </a:solidFill>
                <a:latin typeface="Futura"/>
                <a:ea typeface="Titr"/>
              </a:rPr>
              <a:t>1</a:t>
            </a:r>
            <a:r>
              <a:rPr b="0" lang="fa-IR" sz="4400" spc="-1" strike="noStrike">
                <a:solidFill>
                  <a:srgbClr val="ffffff"/>
                </a:solidFill>
                <a:latin typeface="Futura"/>
                <a:ea typeface="Titr"/>
              </a:rPr>
              <a:t>                                    </a:t>
            </a:r>
            <a:r>
              <a:rPr b="0" lang="fa-IR" sz="4400" spc="-1" strike="noStrike">
                <a:solidFill>
                  <a:srgbClr val="00ff00"/>
                </a:solidFill>
                <a:latin typeface="Futura"/>
                <a:cs typeface="Titr"/>
              </a:rPr>
              <a:t>محيط زيست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15"/>
          <p:cNvGrpSpPr/>
          <p:nvPr/>
        </p:nvGrpSpPr>
        <p:grpSpPr>
          <a:xfrm>
            <a:off x="3429000" y="762120"/>
            <a:ext cx="3230640" cy="5333760"/>
            <a:chOff x="3429000" y="762120"/>
            <a:chExt cx="3230640" cy="5333760"/>
          </a:xfrm>
        </p:grpSpPr>
        <p:sp>
          <p:nvSpPr>
            <p:cNvPr id="60" name="Line 22"/>
            <p:cNvSpPr/>
            <p:nvPr/>
          </p:nvSpPr>
          <p:spPr>
            <a:xfrm flipV="1">
              <a:off x="6437520" y="5527800"/>
              <a:ext cx="209520" cy="698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Group 14"/>
            <p:cNvGrpSpPr/>
            <p:nvPr/>
          </p:nvGrpSpPr>
          <p:grpSpPr>
            <a:xfrm>
              <a:off x="3429000" y="762120"/>
              <a:ext cx="3230640" cy="5333760"/>
              <a:chOff x="3429000" y="762120"/>
              <a:chExt cx="3230640" cy="5333760"/>
            </a:xfrm>
          </p:grpSpPr>
          <p:sp>
            <p:nvSpPr>
              <p:cNvPr id="62" name="Line 18"/>
              <p:cNvSpPr/>
              <p:nvPr/>
            </p:nvSpPr>
            <p:spPr>
              <a:xfrm>
                <a:off x="6450120" y="5384880"/>
                <a:ext cx="0" cy="35532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Group 13"/>
              <p:cNvGrpSpPr/>
              <p:nvPr/>
            </p:nvGrpSpPr>
            <p:grpSpPr>
              <a:xfrm>
                <a:off x="3429000" y="762120"/>
                <a:ext cx="3230640" cy="5333760"/>
                <a:chOff x="3429000" y="762120"/>
                <a:chExt cx="3230640" cy="5333760"/>
              </a:xfrm>
            </p:grpSpPr>
            <p:sp>
              <p:nvSpPr>
                <p:cNvPr id="64" name="Line 16"/>
                <p:cNvSpPr/>
                <p:nvPr/>
              </p:nvSpPr>
              <p:spPr>
                <a:xfrm>
                  <a:off x="5326200" y="4246560"/>
                  <a:ext cx="912600" cy="128088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Oval 17"/>
                <p:cNvSpPr/>
                <p:nvPr/>
              </p:nvSpPr>
              <p:spPr>
                <a:xfrm>
                  <a:off x="6239160" y="5029200"/>
                  <a:ext cx="420480" cy="426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Line 19"/>
                <p:cNvSpPr/>
                <p:nvPr/>
              </p:nvSpPr>
              <p:spPr>
                <a:xfrm flipH="1">
                  <a:off x="6309000" y="5740560"/>
                  <a:ext cx="141120" cy="35532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Line 20"/>
                <p:cNvSpPr/>
                <p:nvPr/>
              </p:nvSpPr>
              <p:spPr>
                <a:xfrm>
                  <a:off x="6450120" y="5740560"/>
                  <a:ext cx="139680" cy="35532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Line 21"/>
                <p:cNvSpPr/>
                <p:nvPr/>
              </p:nvSpPr>
              <p:spPr>
                <a:xfrm flipH="1" flipV="1">
                  <a:off x="6239160" y="5527800"/>
                  <a:ext cx="210960" cy="6984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69" name="Picture 28" descr="http://www-c.inria.fr/gamma/OBJECTS/SCHNAUZER/GEOGRAPH/GLOBE.jpeg"/>
                <p:cNvPicPr/>
                <p:nvPr/>
              </p:nvPicPr>
              <p:blipFill>
                <a:blip r:embed="rId1"/>
                <a:srcRect l="10205" t="0" r="4082" b="0"/>
                <a:stretch/>
              </p:blipFill>
              <p:spPr>
                <a:xfrm>
                  <a:off x="3441600" y="762120"/>
                  <a:ext cx="3200760" cy="365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0" name="Oval 15"/>
                <p:cNvSpPr/>
                <p:nvPr/>
              </p:nvSpPr>
              <p:spPr>
                <a:xfrm>
                  <a:off x="3429000" y="974520"/>
                  <a:ext cx="3230640" cy="3271680"/>
                </a:xfrm>
                <a:prstGeom prst="ellipse">
                  <a:avLst/>
                </a:prstGeom>
                <a:noFill/>
                <a:ln w="127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2" descr="http://images.google.com/url?q=http://farm1.static.flickr.com/180/413868404_5d24354114.jpg%3Fv%3D0&amp;usg=AFQjCNFbn_0oFRqntF-aohkWZWBMY_GadA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0" y="0"/>
            <a:ext cx="4724280" cy="68673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Titr"/>
              </a:rPr>
              <a:t>	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cs typeface="Titr"/>
              </a:rPr>
              <a:t>آيا مي دانيد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Titr"/>
              </a:rPr>
              <a:t>	</a:t>
            </a:r>
            <a:r>
              <a:rPr b="0" lang="fa-IR" sz="2200" spc="-1" strike="noStrike">
                <a:solidFill>
                  <a:srgbClr val="000000"/>
                </a:solidFill>
                <a:latin typeface="Arial"/>
                <a:cs typeface="Zar"/>
              </a:rPr>
              <a:t>براي توليد 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cs typeface="Titr"/>
              </a:rPr>
              <a:t>يک پوند گندم </a:t>
            </a:r>
            <a:r>
              <a:rPr b="0" lang="fa-IR" sz="2200" spc="-1" strike="noStrike">
                <a:solidFill>
                  <a:srgbClr val="000000"/>
                </a:solidFill>
                <a:latin typeface="Arial"/>
                <a:cs typeface="Zar"/>
              </a:rPr>
              <a:t>تنها در حدود 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Titr"/>
              </a:rPr>
              <a:t>25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Titr"/>
              </a:rPr>
              <a:t> گالن آب </a:t>
            </a:r>
            <a:r>
              <a:rPr b="0" lang="fa-IR" sz="2200" spc="-1" strike="noStrike">
                <a:solidFill>
                  <a:srgbClr val="000000"/>
                </a:solidFill>
                <a:latin typeface="Arial"/>
                <a:cs typeface="Zar"/>
              </a:rPr>
              <a:t>مصرف مي شو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Titr"/>
              </a:rPr>
              <a:t>	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Titr"/>
              </a:rPr>
              <a:t>	</a:t>
            </a:r>
            <a:r>
              <a:rPr b="0" lang="fa-IR" sz="2200" spc="-1" strike="noStrike">
                <a:solidFill>
                  <a:srgbClr val="000000"/>
                </a:solidFill>
                <a:latin typeface="Arial"/>
                <a:cs typeface="Zar"/>
              </a:rPr>
              <a:t>اما براي توليد غذا براي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Titr"/>
              </a:rPr>
              <a:t>يک حيوان </a:t>
            </a:r>
            <a:r>
              <a:rPr b="0" lang="fa-IR" sz="2200" spc="-1" strike="noStrike">
                <a:solidFill>
                  <a:srgbClr val="000000"/>
                </a:solidFill>
                <a:latin typeface="Arial"/>
                <a:cs typeface="Zar"/>
              </a:rPr>
              <a:t>در حدو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00"/>
                </a:solidFill>
                <a:latin typeface="Arial"/>
                <a:ea typeface="Zar"/>
              </a:rPr>
              <a:t>	</a:t>
            </a:r>
            <a:r>
              <a:rPr b="0" lang="fa-IR" sz="2200" spc="-1" strike="noStrike">
                <a:solidFill>
                  <a:srgbClr val="000000"/>
                </a:solidFill>
                <a:latin typeface="Arial"/>
                <a:ea typeface="Zar"/>
              </a:rPr>
              <a:t>	</a:t>
            </a:r>
            <a:r>
              <a:rPr b="0" lang="fa-IR" sz="2200" spc="-1" strike="noStrike">
                <a:solidFill>
                  <a:srgbClr val="000000"/>
                </a:solidFill>
                <a:latin typeface="Arial"/>
                <a:ea typeface="Zar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Titr"/>
              </a:rPr>
              <a:t>2000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Titr"/>
              </a:rPr>
              <a:t> تا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Titr"/>
              </a:rPr>
              <a:t>8500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Titr"/>
              </a:rPr>
              <a:t> گالن آب </a:t>
            </a:r>
            <a:r>
              <a:rPr b="0" lang="fa-IR" sz="2200" spc="-1" strike="noStrike">
                <a:solidFill>
                  <a:srgbClr val="000000"/>
                </a:solidFill>
                <a:latin typeface="Arial"/>
                <a:cs typeface="Zar"/>
              </a:rPr>
              <a:t>مصرف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Titr"/>
              </a:rPr>
              <a:t> </a:t>
            </a:r>
            <a:r>
              <a:rPr b="0" lang="fa-IR" sz="2200" spc="-1" strike="noStrike">
                <a:solidFill>
                  <a:srgbClr val="000000"/>
                </a:solidFill>
                <a:latin typeface="Arial"/>
                <a:cs typeface="Zar"/>
              </a:rPr>
              <a:t>مي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Titr"/>
              </a:rPr>
              <a:t> </a:t>
            </a:r>
            <a:r>
              <a:rPr b="0" lang="fa-IR" sz="2200" spc="-1" strike="noStrike">
                <a:solidFill>
                  <a:srgbClr val="000000"/>
                </a:solidFill>
                <a:latin typeface="Arial"/>
                <a:cs typeface="Zar"/>
              </a:rPr>
              <a:t>شو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00"/>
                </a:solidFill>
                <a:latin typeface="Arial"/>
                <a:ea typeface="Zar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00"/>
                </a:solidFill>
                <a:latin typeface="Arial"/>
                <a:ea typeface="Zar"/>
              </a:rPr>
              <a:t>	</a:t>
            </a:r>
            <a:r>
              <a:rPr b="0" lang="fa-IR" sz="2200" spc="-1" strike="noStrike">
                <a:solidFill>
                  <a:srgbClr val="000000"/>
                </a:solidFill>
                <a:latin typeface="Arial"/>
                <a:cs typeface="Zar"/>
              </a:rPr>
              <a:t>تا فقط 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cs typeface="Titr"/>
              </a:rPr>
              <a:t>يک پوند گوشت </a:t>
            </a:r>
            <a:r>
              <a:rPr b="0" lang="fa-IR" sz="2200" spc="-1" strike="noStrike">
                <a:solidFill>
                  <a:srgbClr val="000000"/>
                </a:solidFill>
                <a:latin typeface="Arial"/>
                <a:cs typeface="Zar"/>
              </a:rPr>
              <a:t>توليد گرد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4" descr="http://boxes1.com/Files/User/GREEN%20LIGHTBULB.jpg"/>
          <p:cNvPicPr/>
          <p:nvPr/>
        </p:nvPicPr>
        <p:blipFill>
          <a:blip r:embed="rId1"/>
          <a:stretch/>
        </p:blipFill>
        <p:spPr>
          <a:xfrm>
            <a:off x="2209680" y="304920"/>
            <a:ext cx="4640400" cy="579276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5"/>
          <p:cNvSpPr/>
          <p:nvPr/>
        </p:nvSpPr>
        <p:spPr>
          <a:xfrm>
            <a:off x="0" y="0"/>
            <a:ext cx="914400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Arial"/>
                <a:cs typeface="Titr"/>
              </a:rPr>
              <a:t>توليد گوشت به مقدار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tr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tr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tr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tr"/>
              </a:rPr>
              <a:t>	</a:t>
            </a:r>
            <a:r>
              <a:rPr b="0" lang="fa-IR" sz="2400" spc="-1" strike="noStrike">
                <a:solidFill>
                  <a:srgbClr val="ffffff"/>
                </a:solidFill>
                <a:latin typeface="Arial"/>
                <a:cs typeface="Titr"/>
              </a:rPr>
              <a:t>انرژي احتياج دار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tr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tr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WordArt 8" descr=""/>
          <p:cNvPicPr/>
          <p:nvPr/>
        </p:nvPicPr>
        <p:blipFill>
          <a:blip r:embed="rId2"/>
          <a:stretch/>
        </p:blipFill>
        <p:spPr>
          <a:xfrm>
            <a:off x="2981160" y="1596960"/>
            <a:ext cx="3022920" cy="15368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9"/>
          <p:cNvSpPr/>
          <p:nvPr/>
        </p:nvSpPr>
        <p:spPr>
          <a:xfrm>
            <a:off x="5334120" y="499752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Arial"/>
                <a:cs typeface="Zar"/>
              </a:rPr>
              <a:t>انرژيي که يک لامپ </a:t>
            </a:r>
            <a:r>
              <a:rPr b="0" lang="fa-IR" sz="2400" spc="-1" strike="noStrike">
                <a:solidFill>
                  <a:srgbClr val="ffffff"/>
                </a:solidFill>
                <a:latin typeface="Arial"/>
                <a:ea typeface="Zar"/>
              </a:rPr>
              <a:t>100</a:t>
            </a:r>
            <a:r>
              <a:rPr b="0" lang="fa-IR" sz="2400" spc="-1" strike="noStrike">
                <a:solidFill>
                  <a:srgbClr val="ffffff"/>
                </a:solidFill>
                <a:latin typeface="Arial"/>
                <a:ea typeface="Zar"/>
              </a:rPr>
              <a:t> وات در طول </a:t>
            </a:r>
            <a:r>
              <a:rPr b="0" lang="fa-IR" sz="2400" spc="-1" strike="noStrike">
                <a:solidFill>
                  <a:srgbClr val="ffffff"/>
                </a:solidFill>
                <a:latin typeface="Arial"/>
                <a:ea typeface="Zar"/>
              </a:rPr>
              <a:t>10</a:t>
            </a:r>
            <a:r>
              <a:rPr b="0" lang="fa-IR" sz="2400" spc="-1" strike="noStrike">
                <a:solidFill>
                  <a:srgbClr val="ffffff"/>
                </a:solidFill>
                <a:latin typeface="Arial"/>
                <a:ea typeface="Zar"/>
              </a:rPr>
              <a:t> روز استفاده مي</a:t>
            </a:r>
            <a:r>
              <a:rPr b="0" lang="fa-IR" sz="200" spc="-1" strike="noStrike">
                <a:solidFill>
                  <a:srgbClr val="ffffff"/>
                </a:solidFill>
                <a:latin typeface="Arial"/>
                <a:ea typeface="Zar"/>
              </a:rPr>
              <a:t> </a:t>
            </a:r>
            <a:r>
              <a:rPr b="0" lang="fa-IR" sz="2400" spc="-1" strike="noStrike">
                <a:solidFill>
                  <a:srgbClr val="ffffff"/>
                </a:solidFill>
                <a:latin typeface="Arial"/>
                <a:cs typeface="Zar"/>
              </a:rPr>
              <a:t>کن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762120" y="401652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Arial"/>
                <a:cs typeface="Zar"/>
              </a:rPr>
              <a:t>انرژي مورد نياز براي تولي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Arial"/>
                <a:ea typeface="Zar"/>
              </a:rPr>
              <a:t>1 </a:t>
            </a:r>
            <a:r>
              <a:rPr b="0" lang="fa-IR" sz="2400" spc="-1" strike="noStrike">
                <a:solidFill>
                  <a:srgbClr val="ffffff"/>
                </a:solidFill>
                <a:latin typeface="Arial"/>
                <a:cs typeface="Zar"/>
              </a:rPr>
              <a:t>پوند گوشت برابر است ب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0" y="-60948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3809880" y="609480"/>
            <a:ext cx="3581640" cy="1099440"/>
          </a:xfrm>
          <a:prstGeom prst="rect">
            <a:avLst/>
          </a:prstGeom>
          <a:solidFill>
            <a:srgbClr val="00ff00"/>
          </a:solidFill>
          <a:ln w="3240">
            <a:solidFill>
              <a:srgbClr val="00d8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00"/>
                </a:solidFill>
                <a:latin typeface="Futura"/>
                <a:cs typeface="Zar"/>
              </a:rPr>
              <a:t>تقريباً </a:t>
            </a:r>
            <a:r>
              <a:rPr b="0" lang="fa-IR" sz="2200" spc="-1" strike="noStrike">
                <a:solidFill>
                  <a:srgbClr val="000000"/>
                </a:solidFill>
                <a:latin typeface="Futura"/>
                <a:ea typeface="Zar"/>
              </a:rPr>
              <a:t>90</a:t>
            </a:r>
            <a:r>
              <a:rPr b="0" lang="fa-IR" sz="2200" spc="-1" strike="noStrike">
                <a:solidFill>
                  <a:srgbClr val="000000"/>
                </a:solidFill>
                <a:latin typeface="Futura"/>
                <a:ea typeface="Zar"/>
              </a:rPr>
              <a:t> % همه انواع گياهان و حيوانات، در جنگل</a:t>
            </a:r>
            <a:r>
              <a:rPr b="0" lang="fa-IR" sz="100" spc="-1" strike="noStrike">
                <a:solidFill>
                  <a:srgbClr val="000000"/>
                </a:solidFill>
                <a:latin typeface="Futura"/>
                <a:ea typeface="Zar"/>
              </a:rPr>
              <a:t> </a:t>
            </a:r>
            <a:r>
              <a:rPr b="0" lang="fa-IR" sz="2200" spc="-1" strike="noStrike">
                <a:solidFill>
                  <a:srgbClr val="000000"/>
                </a:solidFill>
                <a:latin typeface="Futura"/>
                <a:cs typeface="Zar"/>
              </a:rPr>
              <a:t>هاي استوايي يافت مي</a:t>
            </a:r>
            <a:r>
              <a:rPr b="0" lang="fa-IR" sz="100" spc="-1" strike="noStrike">
                <a:solidFill>
                  <a:srgbClr val="000000"/>
                </a:solidFill>
                <a:latin typeface="Futura"/>
                <a:ea typeface="Zar"/>
              </a:rPr>
              <a:t> </a:t>
            </a:r>
            <a:r>
              <a:rPr b="0" lang="fa-IR" sz="2200" spc="-1" strike="noStrike">
                <a:solidFill>
                  <a:srgbClr val="000000"/>
                </a:solidFill>
                <a:latin typeface="Futura"/>
                <a:cs typeface="Zar"/>
              </a:rPr>
              <a:t>شوند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2057400" y="4572000"/>
            <a:ext cx="3124080" cy="1434600"/>
          </a:xfrm>
          <a:prstGeom prst="rect">
            <a:avLst/>
          </a:prstGeom>
          <a:solidFill>
            <a:srgbClr val="00ff00"/>
          </a:solidFill>
          <a:ln w="3240">
            <a:solidFill>
              <a:srgbClr val="00d8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00"/>
                </a:solidFill>
                <a:latin typeface="Futura"/>
                <a:cs typeface="Zar"/>
              </a:rPr>
              <a:t>ساليانه حدود </a:t>
            </a:r>
            <a:r>
              <a:rPr b="0" lang="fa-IR" sz="2200" spc="-1" strike="noStrike">
                <a:solidFill>
                  <a:srgbClr val="000000"/>
                </a:solidFill>
                <a:latin typeface="Futura"/>
                <a:ea typeface="Zar"/>
              </a:rPr>
              <a:t>80</a:t>
            </a:r>
            <a:r>
              <a:rPr b="0" lang="fa-IR" sz="2200" spc="-1" strike="noStrike">
                <a:solidFill>
                  <a:srgbClr val="000000"/>
                </a:solidFill>
                <a:latin typeface="Futura"/>
                <a:ea typeface="Zar"/>
              </a:rPr>
              <a:t>% قطع درختان جنگلي به دامپروري مربوط مي</a:t>
            </a:r>
            <a:r>
              <a:rPr b="0" lang="fa-IR" sz="100" spc="-1" strike="noStrike">
                <a:solidFill>
                  <a:srgbClr val="000000"/>
                </a:solidFill>
                <a:latin typeface="Futura"/>
                <a:ea typeface="Zar"/>
              </a:rPr>
              <a:t> </a:t>
            </a:r>
            <a:r>
              <a:rPr b="0" lang="fa-IR" sz="2200" spc="-1" strike="noStrike">
                <a:solidFill>
                  <a:srgbClr val="000000"/>
                </a:solidFill>
                <a:latin typeface="Futura"/>
                <a:cs typeface="Zar"/>
              </a:rPr>
              <a:t>شود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14"/>
          <p:cNvSpPr/>
          <p:nvPr/>
        </p:nvSpPr>
        <p:spPr>
          <a:xfrm>
            <a:off x="1600200" y="1776240"/>
            <a:ext cx="2514600" cy="25909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6"/>
          <p:cNvSpPr/>
          <p:nvPr/>
        </p:nvSpPr>
        <p:spPr>
          <a:xfrm>
            <a:off x="152280" y="2538360"/>
            <a:ext cx="1219320" cy="12193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20"/>
          <p:cNvSpPr/>
          <p:nvPr/>
        </p:nvSpPr>
        <p:spPr>
          <a:xfrm>
            <a:off x="2854440" y="785880"/>
            <a:ext cx="839520" cy="8380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22"/>
          <p:cNvSpPr/>
          <p:nvPr/>
        </p:nvSpPr>
        <p:spPr>
          <a:xfrm>
            <a:off x="187200" y="785880"/>
            <a:ext cx="839880" cy="8380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24"/>
          <p:cNvSpPr/>
          <p:nvPr/>
        </p:nvSpPr>
        <p:spPr>
          <a:xfrm>
            <a:off x="873000" y="3909960"/>
            <a:ext cx="839880" cy="83808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5"/>
          <p:cNvSpPr/>
          <p:nvPr/>
        </p:nvSpPr>
        <p:spPr>
          <a:xfrm flipH="1">
            <a:off x="3125520" y="1623960"/>
            <a:ext cx="7596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26"/>
          <p:cNvSpPr/>
          <p:nvPr/>
        </p:nvSpPr>
        <p:spPr>
          <a:xfrm flipH="1">
            <a:off x="1372680" y="3071880"/>
            <a:ext cx="228600" cy="759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7"/>
          <p:cNvSpPr/>
          <p:nvPr/>
        </p:nvSpPr>
        <p:spPr>
          <a:xfrm flipV="1">
            <a:off x="1601640" y="3909600"/>
            <a:ext cx="228600" cy="152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8"/>
          <p:cNvSpPr/>
          <p:nvPr/>
        </p:nvSpPr>
        <p:spPr>
          <a:xfrm>
            <a:off x="914400" y="1471680"/>
            <a:ext cx="99072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0"/>
          <p:cNvSpPr/>
          <p:nvPr/>
        </p:nvSpPr>
        <p:spPr>
          <a:xfrm>
            <a:off x="4191120" y="2286000"/>
            <a:ext cx="4952880" cy="244008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a-IR" sz="2200" spc="-1" strike="noStrike">
                <a:solidFill>
                  <a:srgbClr val="ffffff"/>
                </a:solidFill>
                <a:latin typeface="Futura"/>
                <a:cs typeface="Zar"/>
              </a:rPr>
              <a:t>براساس گزارش</a:t>
            </a:r>
            <a:r>
              <a:rPr b="0" i="1" lang="fa-IR" sz="100" spc="-1" strike="noStrike">
                <a:solidFill>
                  <a:srgbClr val="ffffff"/>
                </a:solidFill>
                <a:latin typeface="Futura"/>
                <a:ea typeface="Zar"/>
              </a:rPr>
              <a:t> </a:t>
            </a:r>
            <a:r>
              <a:rPr b="0" i="1" lang="fa-IR" sz="2200" spc="-1" strike="noStrike">
                <a:solidFill>
                  <a:srgbClr val="ffffff"/>
                </a:solidFill>
                <a:latin typeface="Futura"/>
                <a:cs typeface="Zar"/>
              </a:rPr>
              <a:t>هاي موجود در رابطه با جنگل</a:t>
            </a:r>
            <a:r>
              <a:rPr b="0" i="1" lang="fa-IR" sz="100" spc="-1" strike="noStrike">
                <a:solidFill>
                  <a:srgbClr val="ffffff"/>
                </a:solidFill>
                <a:latin typeface="Futura"/>
                <a:ea typeface="Zar"/>
              </a:rPr>
              <a:t> </a:t>
            </a:r>
            <a:r>
              <a:rPr b="0" i="1" lang="fa-IR" sz="2200" spc="-1" strike="noStrike">
                <a:solidFill>
                  <a:srgbClr val="ffffff"/>
                </a:solidFill>
                <a:latin typeface="Futura"/>
                <a:cs typeface="Zar"/>
              </a:rPr>
              <a:t>هاي استوايي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1bd04"/>
                </a:solidFill>
                <a:latin typeface="Futura"/>
                <a:cs typeface="Zar"/>
              </a:rPr>
              <a:t>در آمريکاي مرکزي، طي </a:t>
            </a:r>
            <a:r>
              <a:rPr b="0" lang="fa-IR" sz="2200" spc="-1" strike="noStrike">
                <a:solidFill>
                  <a:srgbClr val="01bd04"/>
                </a:solidFill>
                <a:latin typeface="Futura"/>
                <a:ea typeface="Zar"/>
              </a:rPr>
              <a:t>40</a:t>
            </a:r>
            <a:r>
              <a:rPr b="0" lang="fa-IR" sz="2200" spc="-1" strike="noStrike">
                <a:solidFill>
                  <a:srgbClr val="01bd04"/>
                </a:solidFill>
                <a:latin typeface="Futura"/>
                <a:ea typeface="Zar"/>
              </a:rPr>
              <a:t> سال گذشته حدود </a:t>
            </a:r>
            <a:r>
              <a:rPr b="0" lang="fa-IR" sz="2200" spc="-1" strike="noStrike">
                <a:solidFill>
                  <a:srgbClr val="01bd04"/>
                </a:solidFill>
                <a:latin typeface="Futura"/>
                <a:ea typeface="Zar"/>
              </a:rPr>
              <a:t>40</a:t>
            </a:r>
            <a:r>
              <a:rPr b="0" lang="fa-IR" sz="2200" spc="-1" strike="noStrike">
                <a:solidFill>
                  <a:srgbClr val="01bd04"/>
                </a:solidFill>
                <a:latin typeface="Futura"/>
                <a:ea typeface="Zar"/>
              </a:rPr>
              <a:t> % از جنگل هاي استوايي از بين رفته يا سوزانده شده</a:t>
            </a:r>
            <a:r>
              <a:rPr b="0" lang="fa-IR" sz="100" spc="-1" strike="noStrike">
                <a:solidFill>
                  <a:srgbClr val="01bd04"/>
                </a:solidFill>
                <a:latin typeface="Futura"/>
                <a:ea typeface="Zar"/>
              </a:rPr>
              <a:t> </a:t>
            </a:r>
            <a:r>
              <a:rPr b="0" lang="fa-IR" sz="2200" spc="-1" strike="noStrike">
                <a:solidFill>
                  <a:srgbClr val="01bd04"/>
                </a:solidFill>
                <a:latin typeface="Futura"/>
                <a:cs typeface="Zar"/>
              </a:rPr>
              <a:t>اند؛ اغلب بخاطر تهيه غذاي احشام تا بازار صادرات گوشت آمريکا برقرار باشد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1"/>
          <p:cNvSpPr/>
          <p:nvPr/>
        </p:nvSpPr>
        <p:spPr>
          <a:xfrm>
            <a:off x="4114800" y="5638680"/>
            <a:ext cx="4495680" cy="109944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1bd04"/>
                </a:solidFill>
                <a:latin typeface="Futura"/>
                <a:cs typeface="Zar"/>
              </a:rPr>
              <a:t>يک رژيم غذايي گياهي به يک هفتم زمين</a:t>
            </a:r>
            <a:r>
              <a:rPr b="0" lang="fa-IR" sz="100" spc="-1" strike="noStrike">
                <a:solidFill>
                  <a:srgbClr val="01bd04"/>
                </a:solidFill>
                <a:latin typeface="Futura"/>
                <a:ea typeface="Zar"/>
              </a:rPr>
              <a:t> </a:t>
            </a:r>
            <a:r>
              <a:rPr b="0" lang="fa-IR" sz="2200" spc="-1" strike="noStrike">
                <a:solidFill>
                  <a:srgbClr val="01bd04"/>
                </a:solidFill>
                <a:latin typeface="Futura"/>
                <a:cs typeface="Zar"/>
              </a:rPr>
              <a:t>هاي مورد نياز براي رژيم غذايي همراه با گوشت، احتياج دارد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20:05:39Z</dcterms:created>
  <dc:creator>Honors College</dc:creator>
  <dc:description/>
  <dc:language>en-US</dc:language>
  <cp:lastModifiedBy> </cp:lastModifiedBy>
  <dcterms:modified xsi:type="dcterms:W3CDTF">2009-02-21T00:10:31Z</dcterms:modified>
  <cp:revision>346</cp:revision>
  <dc:subject/>
  <dc:title>SAVEtheWORLD</dc:title>
</cp:coreProperties>
</file>