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99C5-DDEA-452F-AD8B-231B07F94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73D9-9420-42C5-A5C6-42F808A8C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ACE1-EF73-4301-A077-FA7BA6E3E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5AAE-F81B-4121-84BA-CD3F7A5E1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E87F-0F8B-4D1C-B1E0-9AA09516F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7F67-606D-4CE0-B82E-B357EB844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E6E8-931D-483C-ACAB-C91DE868D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8946-8404-437B-A5CD-24EEC4E52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2497-713A-45E3-B017-02DD5C96E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CAE4-222E-40E0-82D2-0465EF5BA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0516-6F44-4EDA-9F5F-38E7D8C89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A87D-8E7C-49CC-9215-94A549970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3341-2CF9-47E8-9E38-1E4CFB1B8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BA37-7234-47ED-AB30-BB1B68CB8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ED10-FA45-4233-9E25-7BB7B4D42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480B-DE57-402B-939B-65C134437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B14A-FF3C-4E49-8494-8E7221ECB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E21F-CDE5-4D27-86BD-6EF7BEE63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58C3-BECC-4CE9-B972-8A6C5AFDF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2A35-2AB9-41F0-9C57-CED31FF9D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89A2-12A8-47AC-BCB2-A99F9BF1D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C1DB-D817-4224-A1D4-922FDF459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1F68-DAA3-4ADD-A94F-EE742D5D2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8EC6-062D-4AA6-96B6-382D2E0AD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5DEF-D51D-4C7C-B8DF-FA8642E5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9383-B624-4B6B-A826-670FA531F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9263-A06B-40DA-9990-4A77518B7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A4FE-7371-41F2-9D41-34226276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CFA8-23E4-4667-B600-64D6A52B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9844-C39A-4988-8145-999A9922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FE1D-611C-490B-B819-CA141DF4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4A9F-0141-4B44-9935-92F9A282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D4D4-9B09-4263-94FB-A62B2FB3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9214-7FC5-49D5-ACB1-C2E5CA88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C92A-F10A-49DB-A76A-363192A8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E05E-567D-49FA-A882-91F5C5FDE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12"/>
          <p:cNvSpPr txBox="1"/>
          <p:nvPr/>
        </p:nvSpPr>
        <p:spPr>
          <a:xfrm>
            <a:off x="4648320" y="3200400"/>
            <a:ext cx="4267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tr"/>
              </a:rPr>
              <a:t>براي نجات جهان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tr"/>
              <a:ea typeface="Titr"/>
            </a:endParaRPr>
          </a:p>
        </p:txBody>
      </p:sp>
      <p:sp>
        <p:nvSpPr>
          <p:cNvPr id="50" name="WordArt 13"/>
          <p:cNvSpPr txBox="1"/>
          <p:nvPr/>
        </p:nvSpPr>
        <p:spPr>
          <a:xfrm>
            <a:off x="3276720" y="4114800"/>
            <a:ext cx="58672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3240">
                  <a:solidFill>
                    <a:srgbClr val="00d802"/>
                  </a:solidFill>
                  <a:miter/>
                </a:ln>
                <a:solidFill>
                  <a:srgbClr val="00ff00"/>
                </a:solidFill>
                <a:latin typeface="Titr"/>
              </a:rPr>
              <a:t>گياهخوار</a:t>
            </a:r>
            <a:endParaRPr b="1" lang="en-US" sz="2400" spc="1" strike="noStrike">
              <a:ln w="3240">
                <a:solidFill>
                  <a:srgbClr val="00d802"/>
                </a:solidFill>
                <a:miter/>
              </a:ln>
              <a:solidFill>
                <a:srgbClr val="00ff00"/>
              </a:solidFill>
              <a:latin typeface="Titr"/>
              <a:ea typeface="Titr"/>
            </a:endParaRPr>
          </a:p>
        </p:txBody>
      </p:sp>
      <p:sp>
        <p:nvSpPr>
          <p:cNvPr id="51" name="WordArt 15"/>
          <p:cNvSpPr txBox="1"/>
          <p:nvPr/>
        </p:nvSpPr>
        <p:spPr>
          <a:xfrm>
            <a:off x="685800" y="4495680"/>
            <a:ext cx="22096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3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tr"/>
              </a:rPr>
              <a:t>شويد</a:t>
            </a:r>
            <a:endParaRPr b="1" lang="en-US" sz="123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tr"/>
              <a:ea typeface="Tit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"/>
          <p:cNvSpPr/>
          <p:nvPr/>
        </p:nvSpPr>
        <p:spPr>
          <a:xfrm>
            <a:off x="4800600" y="4267080"/>
            <a:ext cx="1752480" cy="1295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8"/>
          <p:cNvSpPr/>
          <p:nvPr/>
        </p:nvSpPr>
        <p:spPr>
          <a:xfrm>
            <a:off x="6513480" y="5029200"/>
            <a:ext cx="420840" cy="426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6724800" y="5384880"/>
            <a:ext cx="0" cy="3556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0"/>
          <p:cNvSpPr/>
          <p:nvPr/>
        </p:nvSpPr>
        <p:spPr>
          <a:xfrm flipH="1">
            <a:off x="6582960" y="5740560"/>
            <a:ext cx="141480" cy="355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6724800" y="5740560"/>
            <a:ext cx="139680" cy="355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 flipH="1" flipV="1">
            <a:off x="6513120" y="5527800"/>
            <a:ext cx="211320" cy="698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"/>
          <p:cNvSpPr/>
          <p:nvPr/>
        </p:nvSpPr>
        <p:spPr>
          <a:xfrm flipV="1">
            <a:off x="6724800" y="5527800"/>
            <a:ext cx="209520" cy="698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Futura"/>
                <a:ea typeface="Titr"/>
              </a:rPr>
              <a:t>            دليل </a:t>
            </a:r>
            <a:r>
              <a:rPr b="0" lang="fa-IR" sz="4400" spc="-1" strike="noStrike">
                <a:solidFill>
                  <a:srgbClr val="ffffff"/>
                </a:solidFill>
                <a:latin typeface="Futura"/>
                <a:ea typeface="Titr"/>
              </a:rPr>
              <a:t>2</a:t>
            </a:r>
            <a:r>
              <a:rPr b="0" lang="fa-IR" sz="4400" spc="-1" strike="noStrike">
                <a:solidFill>
                  <a:srgbClr val="ffffff"/>
                </a:solidFill>
                <a:latin typeface="Futura"/>
                <a:ea typeface="Titr"/>
              </a:rPr>
              <a:t>                                  </a:t>
            </a:r>
            <a:r>
              <a:rPr b="0" lang="fa-IR" sz="4400" spc="-1" strike="noStrike">
                <a:solidFill>
                  <a:srgbClr val="00ff00"/>
                </a:solidFill>
                <a:latin typeface="Futura"/>
                <a:cs typeface="Titr"/>
              </a:rPr>
              <a:t>قحط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6"/>
          <p:cNvSpPr/>
          <p:nvPr/>
        </p:nvSpPr>
        <p:spPr>
          <a:xfrm>
            <a:off x="2941560" y="974880"/>
            <a:ext cx="3230640" cy="32716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2941560" y="974880"/>
            <a:ext cx="3230640" cy="3271680"/>
            <a:chOff x="2941560" y="974880"/>
            <a:chExt cx="3230640" cy="3271680"/>
          </a:xfrm>
        </p:grpSpPr>
        <p:sp>
          <p:nvSpPr>
            <p:cNvPr id="110" name="Oval 12"/>
            <p:cNvSpPr/>
            <p:nvPr/>
          </p:nvSpPr>
          <p:spPr>
            <a:xfrm>
              <a:off x="2941560" y="974880"/>
              <a:ext cx="3230640" cy="3271680"/>
            </a:xfrm>
            <a:prstGeom prst="ellipse">
              <a:avLst/>
            </a:prstGeom>
            <a:noFill/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4"/>
            <p:cNvSpPr/>
            <p:nvPr/>
          </p:nvSpPr>
          <p:spPr>
            <a:xfrm>
              <a:off x="3170160" y="1566720"/>
              <a:ext cx="281952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00ff00"/>
                  </a:solidFill>
                  <a:latin typeface="Futura"/>
                  <a:cs typeface="Zar"/>
                </a:rPr>
                <a:t>در جهان برا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00ff00"/>
                  </a:solidFill>
                  <a:latin typeface="Futura"/>
                  <a:cs typeface="Zar"/>
                </a:rPr>
                <a:t>تغذيه همه انسانها به اندازه کافي غذا وجود دارد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01bd04"/>
                  </a:solidFill>
                  <a:latin typeface="Futura"/>
                  <a:cs typeface="Zar"/>
                </a:rPr>
                <a:t>اما چرا بيش از </a:t>
              </a:r>
              <a:r>
                <a:rPr b="0" lang="fa-IR" sz="2400" spc="-1" strike="noStrike">
                  <a:solidFill>
                    <a:srgbClr val="ffffff"/>
                  </a:solidFill>
                  <a:latin typeface="Futura"/>
                  <a:ea typeface="Zar"/>
                </a:rPr>
                <a:t>840</a:t>
              </a:r>
              <a:r>
                <a:rPr b="0" lang="fa-IR" sz="2400" spc="-1" strike="noStrike">
                  <a:solidFill>
                    <a:srgbClr val="ffffff"/>
                  </a:solidFill>
                  <a:latin typeface="Futura"/>
                  <a:ea typeface="Zar"/>
                </a:rPr>
                <a:t> ميليون</a:t>
              </a:r>
              <a:r>
                <a:rPr b="0" lang="fa-IR" sz="2400" spc="-1" strike="noStrike">
                  <a:solidFill>
                    <a:srgbClr val="01bd04"/>
                  </a:solidFill>
                  <a:latin typeface="Futura"/>
                  <a:ea typeface="Zar"/>
                </a:rPr>
                <a:t> انسان هنوز گرسنه هستند</a:t>
              </a:r>
              <a:r>
                <a:rPr b="0" lang="fa-IR" sz="2400" spc="-1" strike="noStrike">
                  <a:solidFill>
                    <a:srgbClr val="ffffff"/>
                  </a:solidFill>
                  <a:latin typeface="Futura"/>
                  <a:cs typeface="Zar"/>
                </a:rPr>
                <a:t>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Picture 17" descr="http://www.mamasminerals.com/Merchant2/graphics/00000001/b.white.alabaster.bowl.sm.jpg"/>
          <p:cNvPicPr/>
          <p:nvPr/>
        </p:nvPicPr>
        <p:blipFill>
          <a:blip r:embed="rId1"/>
          <a:stretch/>
        </p:blipFill>
        <p:spPr>
          <a:xfrm>
            <a:off x="5943600" y="525780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113" name="Line 15"/>
          <p:cNvSpPr/>
          <p:nvPr/>
        </p:nvSpPr>
        <p:spPr>
          <a:xfrm>
            <a:off x="4800600" y="4267080"/>
            <a:ext cx="1752480" cy="1295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143000" y="762120"/>
            <a:ext cx="7010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00"/>
                </a:solidFill>
                <a:latin typeface="Futura"/>
                <a:cs typeface="Titr"/>
              </a:rPr>
              <a:t>در يک جريب مرتع تنها مي توان </a:t>
            </a:r>
            <a:r>
              <a:rPr b="0" lang="fa-IR" sz="2000" spc="-1" strike="noStrike">
                <a:solidFill>
                  <a:srgbClr val="00ff00"/>
                </a:solidFill>
                <a:latin typeface="Futura"/>
                <a:ea typeface="Titr"/>
              </a:rPr>
              <a:t>165</a:t>
            </a:r>
            <a:r>
              <a:rPr b="0" lang="fa-IR" sz="2000" spc="-1" strike="noStrike">
                <a:solidFill>
                  <a:srgbClr val="00ff00"/>
                </a:solidFill>
                <a:latin typeface="Futura"/>
                <a:ea typeface="Titr"/>
              </a:rPr>
              <a:t> پوند گوشت توليد کر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Futura"/>
                <a:cs typeface="Titr"/>
              </a:rPr>
              <a:t>در حالي که در همين مقدار زمين مي</a:t>
            </a:r>
            <a:r>
              <a:rPr b="0" lang="fa-IR" sz="100" spc="-1" strike="noStrike">
                <a:solidFill>
                  <a:srgbClr val="ffffff"/>
                </a:solidFill>
                <a:latin typeface="Futura"/>
                <a:ea typeface="Titr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Futura"/>
                <a:cs typeface="Titr"/>
              </a:rPr>
              <a:t>توان </a:t>
            </a:r>
            <a:r>
              <a:rPr b="0" lang="fa-IR" sz="2000" spc="-1" strike="noStrike">
                <a:solidFill>
                  <a:srgbClr val="ffffff"/>
                </a:solidFill>
                <a:latin typeface="Futura"/>
                <a:ea typeface="Titr"/>
              </a:rPr>
              <a:t>20000</a:t>
            </a:r>
            <a:r>
              <a:rPr b="0" lang="fa-IR" sz="2000" spc="-1" strike="noStrike">
                <a:solidFill>
                  <a:srgbClr val="ffffff"/>
                </a:solidFill>
                <a:latin typeface="Futura"/>
                <a:ea typeface="Titr"/>
              </a:rPr>
              <a:t> پوند سيب زميني توليد ک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http://www.mamasminerals.com/Merchant2/graphics/00000001/b.white.alabaster.bowl.sm.jpg"/>
          <p:cNvPicPr/>
          <p:nvPr/>
        </p:nvPicPr>
        <p:blipFill>
          <a:blip r:embed="rId1"/>
          <a:stretch/>
        </p:blipFill>
        <p:spPr>
          <a:xfrm>
            <a:off x="2514600" y="266688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1447920" y="1828800"/>
            <a:ext cx="6248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00"/>
                </a:solidFill>
                <a:latin typeface="Futura"/>
                <a:cs typeface="Titr"/>
              </a:rPr>
              <a:t>اگر مردم آمريکا تنها </a:t>
            </a:r>
            <a:r>
              <a:rPr b="0" lang="fa-IR" sz="2000" spc="-1" strike="noStrike">
                <a:solidFill>
                  <a:srgbClr val="ffffff"/>
                </a:solidFill>
                <a:latin typeface="Futura"/>
                <a:ea typeface="Titr"/>
              </a:rPr>
              <a:t>10</a:t>
            </a:r>
            <a:r>
              <a:rPr b="0" lang="fa-IR" sz="2000" spc="-1" strike="noStrike">
                <a:solidFill>
                  <a:srgbClr val="ffffff"/>
                </a:solidFill>
                <a:latin typeface="Futura"/>
                <a:ea typeface="Titr"/>
              </a:rPr>
              <a:t> %</a:t>
            </a:r>
            <a:r>
              <a:rPr b="0" lang="fa-IR" sz="2000" spc="-1" strike="noStrike">
                <a:solidFill>
                  <a:srgbClr val="00ff00"/>
                </a:solidFill>
                <a:latin typeface="Futura"/>
                <a:ea typeface="Titr"/>
              </a:rPr>
              <a:t> کمتر گوشت مي خوردند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Futura"/>
                <a:ea typeface="Titr"/>
              </a:rPr>
              <a:t>12</a:t>
            </a:r>
            <a:r>
              <a:rPr b="0" lang="fa-IR" sz="2000" spc="-1" strike="noStrike">
                <a:solidFill>
                  <a:srgbClr val="ffffff"/>
                </a:solidFill>
                <a:latin typeface="Futura"/>
                <a:ea typeface="Titr"/>
              </a:rPr>
              <a:t> ميليون تن</a:t>
            </a:r>
            <a:r>
              <a:rPr b="0" lang="fa-IR" sz="2000" spc="-1" strike="noStrike">
                <a:solidFill>
                  <a:srgbClr val="00ff00"/>
                </a:solidFill>
                <a:latin typeface="Futura"/>
                <a:ea typeface="Titr"/>
              </a:rPr>
              <a:t> حبوبات مي توانست بجاي اين مقدار گوشت توليد گرد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http://www.mamasminerals.com/Merchant2/graphics/00000001/b.white.alabaster.bowl.sm.jpg"/>
          <p:cNvPicPr/>
          <p:nvPr/>
        </p:nvPicPr>
        <p:blipFill>
          <a:blip r:embed="rId1"/>
          <a:stretch/>
        </p:blipFill>
        <p:spPr>
          <a:xfrm>
            <a:off x="2514600" y="266688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http://www.mamasminerals.com/Merchant2/graphics/00000001/b.white.alabaster.bowl.sm.jpg"/>
          <p:cNvPicPr/>
          <p:nvPr/>
        </p:nvPicPr>
        <p:blipFill>
          <a:blip r:embed="rId1"/>
          <a:stretch/>
        </p:blipFill>
        <p:spPr>
          <a:xfrm>
            <a:off x="2514600" y="266688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2895480" y="2403360"/>
            <a:ext cx="327672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Futura"/>
                <a:ea typeface="Titr"/>
              </a:rPr>
              <a:t>60</a:t>
            </a:r>
            <a:r>
              <a:rPr b="0" lang="fa-IR" sz="2000" spc="-1" strike="noStrike">
                <a:solidFill>
                  <a:srgbClr val="ffffff"/>
                </a:solidFill>
                <a:latin typeface="Futura"/>
                <a:ea typeface="Titr"/>
              </a:rPr>
              <a:t> ميليون انس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00"/>
                </a:solidFill>
                <a:latin typeface="Futura"/>
                <a:cs typeface="Titr"/>
              </a:rPr>
              <a:t>در هر سال از گرسنگي مي</a:t>
            </a:r>
            <a:r>
              <a:rPr b="0" lang="fa-IR" sz="100" spc="-1" strike="noStrike">
                <a:solidFill>
                  <a:srgbClr val="00ff00"/>
                </a:solidFill>
                <a:latin typeface="Futura"/>
                <a:cs typeface="Titr"/>
              </a:rPr>
              <a:t>ج</a:t>
            </a:r>
            <a:r>
              <a:rPr b="0" lang="fa-IR" sz="2000" spc="-1" strike="noStrike">
                <a:solidFill>
                  <a:srgbClr val="00ff00"/>
                </a:solidFill>
                <a:latin typeface="Futura"/>
                <a:cs typeface="Titr"/>
              </a:rPr>
              <a:t>ميرن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Futura"/>
                <a:cs typeface="Titr"/>
              </a:rPr>
              <a:t>تنها به اين دليل که غذاي کافي براي خوردن ندارن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4800600" y="4267080"/>
            <a:ext cx="2514600" cy="1295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5"/>
          <p:cNvSpPr/>
          <p:nvPr/>
        </p:nvSpPr>
        <p:spPr>
          <a:xfrm>
            <a:off x="7275600" y="5029200"/>
            <a:ext cx="420480" cy="426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7486560" y="5384880"/>
            <a:ext cx="0" cy="3556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7"/>
          <p:cNvSpPr/>
          <p:nvPr/>
        </p:nvSpPr>
        <p:spPr>
          <a:xfrm flipH="1">
            <a:off x="7345440" y="5740560"/>
            <a:ext cx="141120" cy="355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8"/>
          <p:cNvSpPr/>
          <p:nvPr/>
        </p:nvSpPr>
        <p:spPr>
          <a:xfrm>
            <a:off x="7486560" y="5740560"/>
            <a:ext cx="139680" cy="355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9"/>
          <p:cNvSpPr/>
          <p:nvPr/>
        </p:nvSpPr>
        <p:spPr>
          <a:xfrm flipH="1" flipV="1">
            <a:off x="7275600" y="5527800"/>
            <a:ext cx="210960" cy="698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0"/>
          <p:cNvSpPr/>
          <p:nvPr/>
        </p:nvSpPr>
        <p:spPr>
          <a:xfrm flipV="1">
            <a:off x="7486560" y="5527800"/>
            <a:ext cx="209520" cy="698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2"/>
          <p:cNvSpPr/>
          <p:nvPr/>
        </p:nvSpPr>
        <p:spPr>
          <a:xfrm>
            <a:off x="2941560" y="974880"/>
            <a:ext cx="3230640" cy="32716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468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Futura"/>
                <a:ea typeface="Titr"/>
              </a:rPr>
              <a:t>           دليل </a:t>
            </a:r>
            <a:r>
              <a:rPr b="0" lang="fa-IR" sz="4400" spc="-1" strike="noStrike">
                <a:solidFill>
                  <a:srgbClr val="ffffff"/>
                </a:solidFill>
                <a:latin typeface="Futura"/>
                <a:ea typeface="Titr"/>
              </a:rPr>
              <a:t>2</a:t>
            </a:r>
            <a:r>
              <a:rPr b="0" lang="fa-IR" sz="4400" spc="-1" strike="noStrike">
                <a:solidFill>
                  <a:srgbClr val="ffffff"/>
                </a:solidFill>
                <a:latin typeface="Futura"/>
                <a:ea typeface="Titr"/>
              </a:rPr>
              <a:t>                                  </a:t>
            </a:r>
            <a:r>
              <a:rPr b="0" lang="fa-IR" sz="4400" spc="-1" strike="noStrike">
                <a:solidFill>
                  <a:srgbClr val="00ff00"/>
                </a:solidFill>
                <a:latin typeface="Futura"/>
                <a:ea typeface="Titr"/>
              </a:rPr>
              <a:t> سلامت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152280" y="457200"/>
            <a:ext cx="50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Futura"/>
                <a:cs typeface="Titr"/>
              </a:rPr>
              <a:t>انجمن رژيم غذايي آمريکا اعلام کرده است که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24"/>
          <p:cNvSpPr/>
          <p:nvPr/>
        </p:nvSpPr>
        <p:spPr>
          <a:xfrm>
            <a:off x="3581280" y="1066680"/>
            <a:ext cx="5486400" cy="5410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WordArt 20" descr=""/>
          <p:cNvPicPr/>
          <p:nvPr/>
        </p:nvPicPr>
        <p:blipFill>
          <a:blip r:embed="rId2"/>
          <a:stretch/>
        </p:blipFill>
        <p:spPr>
          <a:xfrm>
            <a:off x="4181400" y="2279520"/>
            <a:ext cx="3828960" cy="2835360"/>
          </a:xfrm>
          <a:prstGeom prst="rect">
            <a:avLst/>
          </a:prstGeom>
          <a:ln w="0">
            <a:noFill/>
          </a:ln>
        </p:spPr>
      </p:pic>
      <p:sp>
        <p:nvSpPr>
          <p:cNvPr id="142" name="Line 25"/>
          <p:cNvSpPr/>
          <p:nvPr/>
        </p:nvSpPr>
        <p:spPr>
          <a:xfrm>
            <a:off x="0" y="3657600"/>
            <a:ext cx="358128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2"/>
          <p:cNvSpPr/>
          <p:nvPr/>
        </p:nvSpPr>
        <p:spPr>
          <a:xfrm>
            <a:off x="76320" y="1066680"/>
            <a:ext cx="5486400" cy="5410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3"/>
          <p:cNvSpPr/>
          <p:nvPr/>
        </p:nvSpPr>
        <p:spPr>
          <a:xfrm>
            <a:off x="5562720" y="3657600"/>
            <a:ext cx="358128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8"/>
          <p:cNvSpPr/>
          <p:nvPr/>
        </p:nvSpPr>
        <p:spPr>
          <a:xfrm>
            <a:off x="7162920" y="1905120"/>
            <a:ext cx="1985760" cy="17524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9"/>
          <p:cNvSpPr/>
          <p:nvPr/>
        </p:nvSpPr>
        <p:spPr>
          <a:xfrm>
            <a:off x="5562720" y="380880"/>
            <a:ext cx="1828800" cy="18288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762120" y="2073240"/>
            <a:ext cx="419076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Futura"/>
                <a:cs typeface="Zar"/>
              </a:rPr>
              <a:t>از ديگر مزاياي گياهخوا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Futura"/>
                <a:cs typeface="Zar"/>
              </a:rPr>
              <a:t>کنترل وزن مي</a:t>
            </a:r>
            <a:r>
              <a:rPr b="1" lang="fa-IR" sz="100" spc="-1" strike="noStrike">
                <a:solidFill>
                  <a:srgbClr val="000000"/>
                </a:solidFill>
                <a:latin typeface="Futura"/>
                <a:ea typeface="Zar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Futura"/>
                <a:cs typeface="Zar"/>
              </a:rPr>
              <a:t>باش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Futura"/>
                <a:cs typeface="Zar"/>
              </a:rPr>
              <a:t>انسان</a:t>
            </a:r>
            <a:r>
              <a:rPr b="1" lang="fa-IR" sz="100" spc="-1" strike="noStrike">
                <a:solidFill>
                  <a:srgbClr val="000000"/>
                </a:solidFill>
                <a:latin typeface="Futura"/>
                <a:ea typeface="Zar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Futura"/>
                <a:cs typeface="Zar"/>
              </a:rPr>
              <a:t>هاي گياهخوار عموما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Futura"/>
                <a:cs typeface="Zar"/>
              </a:rPr>
              <a:t>خوش اندام</a:t>
            </a:r>
            <a:r>
              <a:rPr b="1" lang="fa-IR" sz="100" spc="-1" strike="noStrike">
                <a:solidFill>
                  <a:srgbClr val="000000"/>
                </a:solidFill>
                <a:latin typeface="Futura"/>
                <a:ea typeface="Zar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Futura"/>
                <a:cs typeface="Zar"/>
              </a:rPr>
              <a:t>تر از افرادي هستند که ا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Futura"/>
                <a:cs typeface="Zar"/>
              </a:rPr>
              <a:t>رژيم</a:t>
            </a:r>
            <a:r>
              <a:rPr b="1" lang="fa-IR" sz="100" spc="-1" strike="noStrike">
                <a:solidFill>
                  <a:srgbClr val="000000"/>
                </a:solidFill>
                <a:latin typeface="Futura"/>
                <a:ea typeface="Zar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Futura"/>
                <a:cs typeface="Zar"/>
              </a:rPr>
              <a:t>هاي شامل گوشت استفاده مي</a:t>
            </a:r>
            <a:r>
              <a:rPr b="1" lang="fa-IR" sz="100" spc="-1" strike="noStrike">
                <a:solidFill>
                  <a:srgbClr val="000000"/>
                </a:solidFill>
                <a:latin typeface="Futura"/>
                <a:ea typeface="Zar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Futura"/>
                <a:cs typeface="Zar"/>
              </a:rPr>
              <a:t>کنند 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Futura"/>
                <a:cs typeface="Zar"/>
              </a:rPr>
              <a:t>کمتر شبيه انسان</a:t>
            </a:r>
            <a:r>
              <a:rPr b="1" lang="fa-IR" sz="100" spc="-1" strike="noStrike">
                <a:solidFill>
                  <a:srgbClr val="000000"/>
                </a:solidFill>
                <a:latin typeface="Futura"/>
                <a:ea typeface="Zar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Futura"/>
                <a:cs typeface="Zar"/>
              </a:rPr>
              <a:t>ها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Futura"/>
                <a:cs typeface="Zar"/>
              </a:rPr>
              <a:t>چاق و فربه هستن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5791320" y="609480"/>
            <a:ext cx="14475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Futura"/>
                <a:cs typeface="Zar"/>
              </a:rPr>
              <a:t>در رژيم</a:t>
            </a:r>
            <a:r>
              <a:rPr b="1" lang="fa-IR" sz="100" spc="-1" strike="noStrike">
                <a:solidFill>
                  <a:srgbClr val="000000"/>
                </a:solidFill>
                <a:latin typeface="Futura"/>
                <a:ea typeface="Zar"/>
              </a:rPr>
              <a:t> </a:t>
            </a:r>
            <a:r>
              <a:rPr b="1" lang="fa-IR" sz="1400" spc="-1" strike="noStrike">
                <a:solidFill>
                  <a:srgbClr val="000000"/>
                </a:solidFill>
                <a:latin typeface="Futura"/>
                <a:cs typeface="Zar"/>
              </a:rPr>
              <a:t>هاي گياهخواري به طور طبيعي چربي</a:t>
            </a:r>
            <a:r>
              <a:rPr b="1" lang="fa-IR" sz="100" spc="-1" strike="noStrike">
                <a:solidFill>
                  <a:srgbClr val="000000"/>
                </a:solidFill>
                <a:latin typeface="Futura"/>
                <a:ea typeface="Zar"/>
              </a:rPr>
              <a:t> </a:t>
            </a:r>
            <a:r>
              <a:rPr b="1" lang="fa-IR" sz="1400" spc="-1" strike="noStrike">
                <a:solidFill>
                  <a:srgbClr val="000000"/>
                </a:solidFill>
                <a:latin typeface="Futura"/>
                <a:cs typeface="Zar"/>
              </a:rPr>
              <a:t>هاي اشباع شده کم و چربي</a:t>
            </a:r>
            <a:r>
              <a:rPr b="1" lang="fa-IR" sz="100" spc="-1" strike="noStrike">
                <a:solidFill>
                  <a:srgbClr val="000000"/>
                </a:solidFill>
                <a:latin typeface="Futura"/>
                <a:ea typeface="Zar"/>
              </a:rPr>
              <a:t> </a:t>
            </a:r>
            <a:r>
              <a:rPr b="1" lang="fa-IR" sz="1400" spc="-1" strike="noStrike">
                <a:solidFill>
                  <a:srgbClr val="000000"/>
                </a:solidFill>
                <a:latin typeface="Futura"/>
                <a:cs typeface="Zar"/>
              </a:rPr>
              <a:t>هاي غير اشباع زياد است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9"/>
          <p:cNvSpPr/>
          <p:nvPr/>
        </p:nvSpPr>
        <p:spPr>
          <a:xfrm>
            <a:off x="1828800" y="380880"/>
            <a:ext cx="5486400" cy="5410440"/>
          </a:xfrm>
          <a:prstGeom prst="ellipse">
            <a:avLst/>
          </a:prstGeom>
          <a:noFill/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0"/>
          <p:cNvSpPr/>
          <p:nvPr/>
        </p:nvSpPr>
        <p:spPr>
          <a:xfrm>
            <a:off x="4572000" y="5791320"/>
            <a:ext cx="0" cy="1066680"/>
          </a:xfrm>
          <a:prstGeom prst="line">
            <a:avLst/>
          </a:prstGeom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2362320" y="984240"/>
            <a:ext cx="4343400" cy="49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Futura"/>
                <a:ea typeface="Zar"/>
              </a:rPr>
              <a:t>FLEXITAR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Futura"/>
                <a:cs typeface="Zar"/>
              </a:rPr>
              <a:t>افرادي که اغلب از رژيم سبزيجات استفاده مي</a:t>
            </a:r>
            <a:r>
              <a:rPr b="1" lang="fa-IR" sz="100" spc="-1" strike="noStrike">
                <a:solidFill>
                  <a:srgbClr val="ffffff"/>
                </a:solidFill>
                <a:latin typeface="Futura"/>
                <a:ea typeface="Zar"/>
              </a:rPr>
              <a:t> </a:t>
            </a:r>
            <a:r>
              <a:rPr b="1" lang="fa-IR" sz="1800" spc="-1" strike="noStrike">
                <a:solidFill>
                  <a:srgbClr val="ffffff"/>
                </a:solidFill>
                <a:latin typeface="Futura"/>
                <a:cs typeface="Zar"/>
              </a:rPr>
              <a:t>کنند، اما گاهي هم از گوشت تغذيه مي</a:t>
            </a:r>
            <a:r>
              <a:rPr b="1" lang="fa-IR" sz="100" spc="-1" strike="noStrike">
                <a:solidFill>
                  <a:srgbClr val="ffffff"/>
                </a:solidFill>
                <a:latin typeface="Futura"/>
                <a:ea typeface="Zar"/>
              </a:rPr>
              <a:t> </a:t>
            </a:r>
            <a:r>
              <a:rPr b="1" lang="fa-IR" sz="1800" spc="-1" strike="noStrike">
                <a:solidFill>
                  <a:srgbClr val="ffffff"/>
                </a:solidFill>
                <a:latin typeface="Futura"/>
                <a:cs typeface="Zar"/>
              </a:rPr>
              <a:t>کنن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Futura"/>
                <a:ea typeface="Zar"/>
              </a:rPr>
              <a:t>LACTO-OVO VEGETAR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Futura"/>
                <a:cs typeface="Zar"/>
              </a:rPr>
              <a:t>افراي که از گوشت گاو، خوک، ماکيان، ماهي، نرم تن</a:t>
            </a:r>
            <a:r>
              <a:rPr b="1" lang="fa-IR" sz="100" spc="-1" strike="noStrike">
                <a:solidFill>
                  <a:srgbClr val="ffffff"/>
                </a:solidFill>
                <a:latin typeface="Futura"/>
                <a:ea typeface="Zar"/>
              </a:rPr>
              <a:t> </a:t>
            </a:r>
            <a:r>
              <a:rPr b="1" lang="fa-IR" sz="1800" spc="-1" strike="noStrike">
                <a:solidFill>
                  <a:srgbClr val="ffffff"/>
                </a:solidFill>
                <a:latin typeface="Futura"/>
                <a:cs typeface="Zar"/>
              </a:rPr>
              <a:t>صدف</a:t>
            </a:r>
            <a:r>
              <a:rPr b="1" lang="fa-IR" sz="100" spc="-1" strike="noStrike">
                <a:solidFill>
                  <a:srgbClr val="ffffff"/>
                </a:solidFill>
                <a:latin typeface="Futura"/>
                <a:ea typeface="Zar"/>
              </a:rPr>
              <a:t> </a:t>
            </a:r>
            <a:r>
              <a:rPr b="1" lang="fa-IR" sz="1800" spc="-1" strike="noStrike">
                <a:solidFill>
                  <a:srgbClr val="ffffff"/>
                </a:solidFill>
                <a:latin typeface="Futura"/>
                <a:cs typeface="Zar"/>
              </a:rPr>
              <a:t>دار و ساير حيوانات استفاده نمي</a:t>
            </a:r>
            <a:r>
              <a:rPr b="1" lang="fa-IR" sz="100" spc="-1" strike="noStrike">
                <a:solidFill>
                  <a:srgbClr val="ffffff"/>
                </a:solidFill>
                <a:latin typeface="Futura"/>
                <a:ea typeface="Zar"/>
              </a:rPr>
              <a:t> </a:t>
            </a:r>
            <a:r>
              <a:rPr b="1" lang="fa-IR" sz="1800" spc="-1" strike="noStrike">
                <a:solidFill>
                  <a:srgbClr val="ffffff"/>
                </a:solidFill>
                <a:latin typeface="Futura"/>
                <a:cs typeface="Zar"/>
              </a:rPr>
              <a:t>کنند اما در رژيمشان تخم مرغ و لبنيات وجود دار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Futura"/>
                <a:ea typeface="Zar"/>
              </a:rPr>
              <a:t>VE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Futura"/>
                <a:cs typeface="Zar"/>
              </a:rPr>
              <a:t>افرادي که از هيچ نوع گوشت حيواني، تخم مرغ، لبنيات و ساير فرآورده</a:t>
            </a:r>
            <a:r>
              <a:rPr b="1" lang="fa-IR" sz="100" spc="-1" strike="noStrike">
                <a:solidFill>
                  <a:srgbClr val="ffffff"/>
                </a:solidFill>
                <a:latin typeface="Futura"/>
                <a:ea typeface="Zar"/>
              </a:rPr>
              <a:t> </a:t>
            </a:r>
            <a:r>
              <a:rPr b="1" lang="fa-IR" sz="1800" spc="-1" strike="noStrike">
                <a:solidFill>
                  <a:srgbClr val="ffffff"/>
                </a:solidFill>
                <a:latin typeface="Futura"/>
                <a:cs typeface="Zar"/>
              </a:rPr>
              <a:t>هايي که از حيوانات بدست مي</a:t>
            </a:r>
            <a:r>
              <a:rPr b="1" lang="fa-IR" sz="100" spc="-1" strike="noStrike">
                <a:solidFill>
                  <a:srgbClr val="ffffff"/>
                </a:solidFill>
                <a:latin typeface="Futura"/>
                <a:ea typeface="Zar"/>
              </a:rPr>
              <a:t> </a:t>
            </a:r>
            <a:r>
              <a:rPr b="1" lang="fa-IR" sz="1800" spc="-1" strike="noStrike">
                <a:solidFill>
                  <a:srgbClr val="ffffff"/>
                </a:solidFill>
                <a:latin typeface="Futura"/>
                <a:cs typeface="Zar"/>
              </a:rPr>
              <a:t>آيد، استفاده نمي</a:t>
            </a:r>
            <a:r>
              <a:rPr b="1" lang="fa-IR" sz="100" spc="-1" strike="noStrike">
                <a:solidFill>
                  <a:srgbClr val="ffffff"/>
                </a:solidFill>
                <a:latin typeface="Futura"/>
                <a:ea typeface="Zar"/>
              </a:rPr>
              <a:t> </a:t>
            </a:r>
            <a:r>
              <a:rPr b="1" lang="fa-IR" sz="1800" spc="-1" strike="noStrike">
                <a:solidFill>
                  <a:srgbClr val="ffffff"/>
                </a:solidFill>
                <a:latin typeface="Futura"/>
                <a:cs typeface="Zar"/>
              </a:rPr>
              <a:t>کنن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fa-IR" sz="2000" spc="-1" strike="noStrike">
                <a:solidFill>
                  <a:srgbClr val="ffffff"/>
                </a:solidFill>
                <a:latin typeface="Futura"/>
                <a:cs typeface="Titr"/>
              </a:rPr>
              <a:t>چرا بايد</a:t>
            </a:r>
            <a:r>
              <a:rPr b="0" lang="fa-IR" sz="2000" spc="-1" strike="noStrike">
                <a:solidFill>
                  <a:srgbClr val="00ff00"/>
                </a:solidFill>
                <a:latin typeface="Futura"/>
                <a:ea typeface="Titr"/>
              </a:rPr>
              <a:t> گياهخوار </a:t>
            </a:r>
            <a:r>
              <a:rPr b="0" lang="fa-IR" sz="2000" spc="-1" strike="noStrike">
                <a:solidFill>
                  <a:srgbClr val="ffffff"/>
                </a:solidFill>
                <a:latin typeface="Futura"/>
                <a:cs typeface="Titr"/>
              </a:rPr>
              <a:t>شد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fa-IR" sz="2000" spc="-1" strike="noStrike">
                <a:solidFill>
                  <a:srgbClr val="ffffff"/>
                </a:solidFill>
                <a:latin typeface="Futura"/>
                <a:cs typeface="Titr"/>
              </a:rPr>
              <a:t>براي محيط زيست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fa-IR" sz="2000" spc="-1" strike="noStrike">
                <a:solidFill>
                  <a:srgbClr val="ffffff"/>
                </a:solidFill>
                <a:latin typeface="Futura"/>
                <a:cs typeface="Titr"/>
              </a:rPr>
              <a:t>براي </a:t>
            </a:r>
            <a:r>
              <a:rPr b="0" lang="fa-IR" sz="2000" spc="-1" strike="noStrike">
                <a:solidFill>
                  <a:srgbClr val="00ff00"/>
                </a:solidFill>
                <a:latin typeface="Futura"/>
                <a:cs typeface="Titr"/>
              </a:rPr>
              <a:t>قحطي</a:t>
            </a:r>
            <a:r>
              <a:rPr b="0" lang="fa-IR" sz="2000" spc="-1" strike="noStrike">
                <a:solidFill>
                  <a:srgbClr val="ffffff"/>
                </a:solidFill>
                <a:latin typeface="Futura"/>
                <a:ea typeface="Titr"/>
              </a:rPr>
              <a:t> و </a:t>
            </a:r>
            <a:r>
              <a:rPr b="0" lang="fa-IR" sz="2000" spc="-1" strike="noStrike">
                <a:solidFill>
                  <a:srgbClr val="00ff00"/>
                </a:solidFill>
                <a:latin typeface="Futura"/>
                <a:cs typeface="Titr"/>
              </a:rPr>
              <a:t>گرسنگي</a:t>
            </a:r>
            <a:r>
              <a:rPr b="0" lang="fa-IR" sz="2000" spc="-1" strike="noStrike">
                <a:solidFill>
                  <a:srgbClr val="ffffff"/>
                </a:solidFill>
                <a:latin typeface="Futura"/>
                <a:cs typeface="Titr"/>
              </a:rPr>
              <a:t>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fa-IR" sz="2000" spc="-1" strike="noStrike">
                <a:solidFill>
                  <a:srgbClr val="ffffff"/>
                </a:solidFill>
                <a:latin typeface="Futura"/>
                <a:cs typeface="Titr"/>
              </a:rPr>
              <a:t>براي </a:t>
            </a:r>
            <a:r>
              <a:rPr b="0" lang="fa-IR" sz="2000" spc="-1" strike="noStrike">
                <a:solidFill>
                  <a:srgbClr val="00ff00"/>
                </a:solidFill>
                <a:latin typeface="Futura"/>
                <a:cs typeface="Titr"/>
              </a:rPr>
              <a:t>سلامتي </a:t>
            </a:r>
            <a:r>
              <a:rPr b="0" lang="fa-IR" sz="2000" spc="-1" strike="noStrike">
                <a:solidFill>
                  <a:srgbClr val="ffffff"/>
                </a:solidFill>
                <a:latin typeface="Futura"/>
                <a:cs typeface="Titr"/>
              </a:rPr>
              <a:t>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fa-IR" sz="2000" spc="-1" strike="noStrike">
                <a:solidFill>
                  <a:srgbClr val="ffffff"/>
                </a:solidFill>
                <a:latin typeface="Futura"/>
                <a:cs typeface="Titr"/>
              </a:rPr>
              <a:t>و</a:t>
            </a:r>
            <a:r>
              <a:rPr b="0" lang="fa-IR" sz="2000" spc="-1" strike="noStrike">
                <a:solidFill>
                  <a:srgbClr val="00ff00"/>
                </a:solidFill>
                <a:latin typeface="Futura"/>
                <a:ea typeface="Titr"/>
              </a:rPr>
              <a:t> چرا نه </a:t>
            </a:r>
            <a:r>
              <a:rPr b="0" lang="fa-IR" sz="2000" spc="-1" strike="noStrike">
                <a:solidFill>
                  <a:srgbClr val="ffffff"/>
                </a:solidFill>
                <a:latin typeface="Futura"/>
                <a:cs typeface="Titr"/>
              </a:rPr>
              <a:t>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Rectangl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fa-IR" sz="2000" spc="-1" strike="noStrike">
                <a:solidFill>
                  <a:srgbClr val="ffffff"/>
                </a:solidFill>
                <a:latin typeface="Futura"/>
                <a:cs typeface="Titr"/>
              </a:rPr>
              <a:t>شما مجبور نيستيد خوردن گوشت را کاملاً فراموش کنيد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fa-IR" sz="2000" spc="-1" strike="noStrike">
                <a:solidFill>
                  <a:srgbClr val="00ff00"/>
                </a:solidFill>
                <a:latin typeface="Futura"/>
                <a:cs typeface="Titr"/>
              </a:rPr>
              <a:t>اما آيا نمي توانيد مصرف گوشتتان را به فقط يک روز در هفته کاهش دهيد</a:t>
            </a:r>
            <a:r>
              <a:rPr b="0" lang="fa-IR" sz="2000" spc="-1" strike="noStrike">
                <a:solidFill>
                  <a:srgbClr val="ffffff"/>
                </a:solidFill>
                <a:latin typeface="Futura"/>
                <a:ea typeface="Titr"/>
              </a:rPr>
              <a:t>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fa-IR" sz="24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fa-IR" sz="24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fa-IR" sz="24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fa-IR" sz="24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fa-IR" sz="2400" spc="-1" strike="noStrike">
                <a:solidFill>
                  <a:srgbClr val="ffffff"/>
                </a:solidFill>
                <a:latin typeface="Futura"/>
                <a:cs typeface="Titr"/>
              </a:rPr>
              <a:t>جهاني فکر کنيد و </a:t>
            </a:r>
            <a:r>
              <a:rPr b="0" lang="fa-IR" sz="2400" spc="-1" strike="noStrike">
                <a:solidFill>
                  <a:srgbClr val="00ff00"/>
                </a:solidFill>
                <a:latin typeface="Futura"/>
                <a:cs typeface="Titr"/>
              </a:rPr>
              <a:t>خودتان عمل کنيد</a:t>
            </a:r>
            <a:r>
              <a:rPr b="0" lang="fa-IR" sz="2400" spc="-1" strike="noStrike">
                <a:solidFill>
                  <a:srgbClr val="ffffff"/>
                </a:solidFill>
                <a:latin typeface="Futura"/>
                <a:ea typeface="Tit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References</a:t>
            </a: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http://www.gove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http://www.howyoucansavetheworld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http://www.nasa.g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http://www.brook.com/v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http://www.rainforestinfo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*http://news.bbc.co.uk/1/hi/sci/tech/3559542.s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Futura"/>
                <a:ea typeface="Titr"/>
              </a:rPr>
              <a:t>	</a:t>
            </a:r>
            <a:r>
              <a:rPr b="0" lang="fa-IR" sz="2000" spc="-1" strike="noStrike">
                <a:solidFill>
                  <a:srgbClr val="000000"/>
                </a:solidFill>
                <a:latin typeface="Futura"/>
                <a:cs typeface="Titr"/>
              </a:rPr>
              <a:t>قبل از هرچيز بايد توجه کرد که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fa-IR" sz="2000" spc="-1" strike="noStrike">
                <a:solidFill>
                  <a:srgbClr val="ffffff"/>
                </a:solidFill>
                <a:latin typeface="Futura"/>
                <a:cs typeface="Titr"/>
              </a:rPr>
              <a:t>قبل از هرچيز بايد توجه کرد که ... </a:t>
            </a:r>
            <a:r>
              <a:rPr b="0" lang="fa-IR" sz="2000" spc="-1" strike="noStrike">
                <a:solidFill>
                  <a:srgbClr val="00ff00"/>
                </a:solidFill>
                <a:latin typeface="Futura"/>
                <a:cs typeface="Titr"/>
              </a:rPr>
              <a:t>هيچ گناهي وجود ندار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00"/>
                </a:solidFill>
                <a:latin typeface="Futura"/>
                <a:ea typeface="Titr"/>
              </a:rPr>
              <a:t>	</a:t>
            </a:r>
            <a:r>
              <a:rPr b="0" lang="fa-IR" sz="2000" spc="-1" strike="noStrike">
                <a:solidFill>
                  <a:srgbClr val="ffffff"/>
                </a:solidFill>
                <a:latin typeface="Futura"/>
                <a:cs typeface="Titr"/>
              </a:rPr>
              <a:t>که حيوانات،</a:t>
            </a:r>
            <a:r>
              <a:rPr b="0" lang="fa-IR" sz="2000" spc="-1" strike="noStrike">
                <a:solidFill>
                  <a:srgbClr val="00ff00"/>
                </a:solidFill>
                <a:latin typeface="Futura"/>
                <a:ea typeface="Titr"/>
              </a:rPr>
              <a:t> حيوانات ديگر را مي خورن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Futura"/>
                <a:cs typeface="Titr"/>
              </a:rPr>
              <a:t>اما  با خوردن کوشت در روزهاي  </a:t>
            </a:r>
            <a:r>
              <a:rPr b="0" lang="fa-IR" sz="2000" spc="-1" strike="noStrike">
                <a:solidFill>
                  <a:srgbClr val="00ff00"/>
                </a:solidFill>
                <a:latin typeface="Futura"/>
                <a:cs typeface="Titr"/>
              </a:rPr>
              <a:t>کمتري از يک هفته</a:t>
            </a:r>
            <a:r>
              <a:rPr b="0" lang="fa-IR" sz="2000" spc="-1" strike="noStrike">
                <a:solidFill>
                  <a:srgbClr val="00ff00"/>
                </a:solidFill>
                <a:latin typeface="Futura"/>
                <a:ea typeface="Titr"/>
              </a:rPr>
              <a:t>	</a:t>
            </a:r>
            <a:r>
              <a:rPr b="0" lang="fa-IR" sz="2000" spc="-1" strike="noStrike">
                <a:solidFill>
                  <a:srgbClr val="00ff00"/>
                </a:solidFill>
                <a:latin typeface="Futura"/>
                <a:ea typeface="Titr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Futura"/>
                <a:cs typeface="Titr"/>
              </a:rPr>
              <a:t>شما مي توانيد</a:t>
            </a:r>
            <a:r>
              <a:rPr b="0" lang="fa-IR" sz="2000" spc="-1" strike="noStrike">
                <a:solidFill>
                  <a:srgbClr val="00ff00"/>
                </a:solidFill>
                <a:latin typeface="Futura"/>
                <a:ea typeface="Titr"/>
              </a:rPr>
              <a:t> بسيار کمک کنيد</a:t>
            </a:r>
            <a:r>
              <a:rPr b="0" lang="fa-IR" sz="2000" spc="-1" strike="noStrike">
                <a:solidFill>
                  <a:srgbClr val="00ff00"/>
                </a:solidFill>
                <a:latin typeface="Futura"/>
                <a:ea typeface="Titr"/>
              </a:rPr>
              <a:t>	</a:t>
            </a:r>
            <a:r>
              <a:rPr b="0" lang="fa-IR" sz="2000" spc="-1" strike="noStrike">
                <a:solidFill>
                  <a:srgbClr val="00ff00"/>
                </a:solidFill>
                <a:latin typeface="Futura"/>
                <a:ea typeface="Titr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Futura"/>
                <a:ea typeface="Titr"/>
              </a:rPr>
              <a:t>        دليل </a:t>
            </a:r>
            <a:r>
              <a:rPr b="0" lang="fa-IR" sz="4400" spc="-1" strike="noStrike">
                <a:solidFill>
                  <a:srgbClr val="ffffff"/>
                </a:solidFill>
                <a:latin typeface="Futura"/>
                <a:ea typeface="Titr"/>
              </a:rPr>
              <a:t>1</a:t>
            </a:r>
            <a:r>
              <a:rPr b="0" lang="fa-IR" sz="4400" spc="-1" strike="noStrike">
                <a:solidFill>
                  <a:srgbClr val="ffffff"/>
                </a:solidFill>
                <a:latin typeface="Futura"/>
                <a:ea typeface="Titr"/>
              </a:rPr>
              <a:t>                                    </a:t>
            </a:r>
            <a:r>
              <a:rPr b="0" lang="fa-IR" sz="4400" spc="-1" strike="noStrike">
                <a:solidFill>
                  <a:srgbClr val="00ff00"/>
                </a:solidFill>
                <a:latin typeface="Futura"/>
                <a:cs typeface="Titr"/>
              </a:rPr>
              <a:t>محيط زيست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5"/>
          <p:cNvGrpSpPr/>
          <p:nvPr/>
        </p:nvGrpSpPr>
        <p:grpSpPr>
          <a:xfrm>
            <a:off x="3429000" y="762120"/>
            <a:ext cx="3230640" cy="5333760"/>
            <a:chOff x="3429000" y="762120"/>
            <a:chExt cx="3230640" cy="5333760"/>
          </a:xfrm>
        </p:grpSpPr>
        <p:sp>
          <p:nvSpPr>
            <p:cNvPr id="60" name="Line 22"/>
            <p:cNvSpPr/>
            <p:nvPr/>
          </p:nvSpPr>
          <p:spPr>
            <a:xfrm flipV="1">
              <a:off x="6437520" y="5527800"/>
              <a:ext cx="209520" cy="698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14"/>
            <p:cNvGrpSpPr/>
            <p:nvPr/>
          </p:nvGrpSpPr>
          <p:grpSpPr>
            <a:xfrm>
              <a:off x="3429000" y="762120"/>
              <a:ext cx="3230640" cy="5333760"/>
              <a:chOff x="3429000" y="762120"/>
              <a:chExt cx="3230640" cy="5333760"/>
            </a:xfrm>
          </p:grpSpPr>
          <p:sp>
            <p:nvSpPr>
              <p:cNvPr id="62" name="Line 18"/>
              <p:cNvSpPr/>
              <p:nvPr/>
            </p:nvSpPr>
            <p:spPr>
              <a:xfrm>
                <a:off x="6450120" y="5384880"/>
                <a:ext cx="0" cy="3553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Group 13"/>
              <p:cNvGrpSpPr/>
              <p:nvPr/>
            </p:nvGrpSpPr>
            <p:grpSpPr>
              <a:xfrm>
                <a:off x="3429000" y="762120"/>
                <a:ext cx="3230640" cy="5333760"/>
                <a:chOff x="3429000" y="762120"/>
                <a:chExt cx="3230640" cy="5333760"/>
              </a:xfrm>
            </p:grpSpPr>
            <p:sp>
              <p:nvSpPr>
                <p:cNvPr id="64" name="Line 16"/>
                <p:cNvSpPr/>
                <p:nvPr/>
              </p:nvSpPr>
              <p:spPr>
                <a:xfrm>
                  <a:off x="5326200" y="4246560"/>
                  <a:ext cx="912600" cy="128088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Oval 17"/>
                <p:cNvSpPr/>
                <p:nvPr/>
              </p:nvSpPr>
              <p:spPr>
                <a:xfrm>
                  <a:off x="6239160" y="5029200"/>
                  <a:ext cx="420480" cy="426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Line 19"/>
                <p:cNvSpPr/>
                <p:nvPr/>
              </p:nvSpPr>
              <p:spPr>
                <a:xfrm flipH="1">
                  <a:off x="6309000" y="5740560"/>
                  <a:ext cx="141120" cy="35532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Line 20"/>
                <p:cNvSpPr/>
                <p:nvPr/>
              </p:nvSpPr>
              <p:spPr>
                <a:xfrm>
                  <a:off x="6450120" y="5740560"/>
                  <a:ext cx="139680" cy="35532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Line 21"/>
                <p:cNvSpPr/>
                <p:nvPr/>
              </p:nvSpPr>
              <p:spPr>
                <a:xfrm flipH="1" flipV="1">
                  <a:off x="6239160" y="5527800"/>
                  <a:ext cx="210960" cy="6984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9" name="Picture 28" descr="http://www-c.inria.fr/gamma/OBJECTS/SCHNAUZER/GEOGRAPH/GLOBE.jpeg"/>
                <p:cNvPicPr/>
                <p:nvPr/>
              </p:nvPicPr>
              <p:blipFill>
                <a:blip r:embed="rId1"/>
                <a:srcRect l="10205" t="0" r="4082" b="0"/>
                <a:stretch/>
              </p:blipFill>
              <p:spPr>
                <a:xfrm>
                  <a:off x="3441600" y="762120"/>
                  <a:ext cx="3200760" cy="365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" name="Oval 15"/>
                <p:cNvSpPr/>
                <p:nvPr/>
              </p:nvSpPr>
              <p:spPr>
                <a:xfrm>
                  <a:off x="3429000" y="974520"/>
                  <a:ext cx="3230640" cy="3271680"/>
                </a:xfrm>
                <a:prstGeom prst="ellipse">
                  <a:avLst/>
                </a:prstGeom>
                <a:noFill/>
                <a:ln w="127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2" descr="http://images.google.com/url?q=http://farm1.static.flickr.com/180/413868404_5d24354114.jpg%3Fv%3D0&amp;usg=AFQjCNFbn_0oFRqntF-aohkWZWBMY_GadA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4724280" cy="68673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Titr"/>
              </a:rPr>
              <a:t>	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Titr"/>
              </a:rPr>
              <a:t>آيا مي دانيد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Titr"/>
              </a:rPr>
              <a:t>	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  <a:cs typeface="Zar"/>
              </a:rPr>
              <a:t>براي توليد 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Titr"/>
              </a:rPr>
              <a:t>يک پوند گندم 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  <a:cs typeface="Zar"/>
              </a:rPr>
              <a:t>تنها در حدود 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Titr"/>
              </a:rPr>
              <a:t>25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Titr"/>
              </a:rPr>
              <a:t> گالن آب 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  <a:cs typeface="Zar"/>
              </a:rPr>
              <a:t>مصرف مي شو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Titr"/>
              </a:rPr>
              <a:t>	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Titr"/>
              </a:rPr>
              <a:t>	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  <a:cs typeface="Zar"/>
              </a:rPr>
              <a:t>اما براي توليد غذا براي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Titr"/>
              </a:rPr>
              <a:t>يک حيوان 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  <a:cs typeface="Zar"/>
              </a:rPr>
              <a:t>در حدو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Arial"/>
                <a:ea typeface="Zar"/>
              </a:rPr>
              <a:t>	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  <a:ea typeface="Zar"/>
              </a:rPr>
              <a:t>	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  <a:ea typeface="Zar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Titr"/>
              </a:rPr>
              <a:t>2000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Titr"/>
              </a:rPr>
              <a:t> تا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Titr"/>
              </a:rPr>
              <a:t>8500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Titr"/>
              </a:rPr>
              <a:t> گالن آب 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  <a:cs typeface="Zar"/>
              </a:rPr>
              <a:t>مصرف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Titr"/>
              </a:rPr>
              <a:t> 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  <a:cs typeface="Zar"/>
              </a:rPr>
              <a:t>مي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Titr"/>
              </a:rPr>
              <a:t> 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  <a:cs typeface="Zar"/>
              </a:rPr>
              <a:t>شو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Arial"/>
                <a:ea typeface="Zar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Arial"/>
                <a:ea typeface="Zar"/>
              </a:rPr>
              <a:t>	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  <a:cs typeface="Zar"/>
              </a:rPr>
              <a:t>تا فقط 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Titr"/>
              </a:rPr>
              <a:t>يک پوند گوشت 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  <a:cs typeface="Zar"/>
              </a:rPr>
              <a:t>توليد گرد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4" descr="http://boxes1.com/Files/User/GREEN%20LIGHTBULB.jpg"/>
          <p:cNvPicPr/>
          <p:nvPr/>
        </p:nvPicPr>
        <p:blipFill>
          <a:blip r:embed="rId1"/>
          <a:stretch/>
        </p:blipFill>
        <p:spPr>
          <a:xfrm>
            <a:off x="2209680" y="304920"/>
            <a:ext cx="4640400" cy="57927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>
            <a:off x="0" y="0"/>
            <a:ext cx="914400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Arial"/>
                <a:cs typeface="Titr"/>
              </a:rPr>
              <a:t>توليد گوشت به مقدار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tr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tr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tr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tr"/>
              </a:rPr>
              <a:t>	</a:t>
            </a:r>
            <a:r>
              <a:rPr b="0" lang="fa-IR" sz="2400" spc="-1" strike="noStrike">
                <a:solidFill>
                  <a:srgbClr val="ffffff"/>
                </a:solidFill>
                <a:latin typeface="Arial"/>
                <a:cs typeface="Titr"/>
              </a:rPr>
              <a:t>انرژي احتياج دار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tr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tr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WordArt 8" descr=""/>
          <p:cNvPicPr/>
          <p:nvPr/>
        </p:nvPicPr>
        <p:blipFill>
          <a:blip r:embed="rId2"/>
          <a:stretch/>
        </p:blipFill>
        <p:spPr>
          <a:xfrm>
            <a:off x="2981160" y="1596960"/>
            <a:ext cx="3022920" cy="15368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9"/>
          <p:cNvSpPr/>
          <p:nvPr/>
        </p:nvSpPr>
        <p:spPr>
          <a:xfrm>
            <a:off x="5334120" y="499752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Arial"/>
                <a:cs typeface="Zar"/>
              </a:rPr>
              <a:t>انرژيي که يک لامپ </a:t>
            </a:r>
            <a:r>
              <a:rPr b="0" lang="fa-IR" sz="2400" spc="-1" strike="noStrike">
                <a:solidFill>
                  <a:srgbClr val="ffffff"/>
                </a:solidFill>
                <a:latin typeface="Arial"/>
                <a:ea typeface="Zar"/>
              </a:rPr>
              <a:t>100</a:t>
            </a:r>
            <a:r>
              <a:rPr b="0" lang="fa-IR" sz="2400" spc="-1" strike="noStrike">
                <a:solidFill>
                  <a:srgbClr val="ffffff"/>
                </a:solidFill>
                <a:latin typeface="Arial"/>
                <a:ea typeface="Zar"/>
              </a:rPr>
              <a:t> وات در طول </a:t>
            </a:r>
            <a:r>
              <a:rPr b="0" lang="fa-IR" sz="2400" spc="-1" strike="noStrike">
                <a:solidFill>
                  <a:srgbClr val="ffffff"/>
                </a:solidFill>
                <a:latin typeface="Arial"/>
                <a:ea typeface="Zar"/>
              </a:rPr>
              <a:t>10</a:t>
            </a:r>
            <a:r>
              <a:rPr b="0" lang="fa-IR" sz="2400" spc="-1" strike="noStrike">
                <a:solidFill>
                  <a:srgbClr val="ffffff"/>
                </a:solidFill>
                <a:latin typeface="Arial"/>
                <a:ea typeface="Zar"/>
              </a:rPr>
              <a:t> روز استفاده مي</a:t>
            </a:r>
            <a:r>
              <a:rPr b="0" lang="fa-IR" sz="200" spc="-1" strike="noStrike">
                <a:solidFill>
                  <a:srgbClr val="ffffff"/>
                </a:solidFill>
                <a:latin typeface="Arial"/>
                <a:ea typeface="Zar"/>
              </a:rPr>
              <a:t> </a:t>
            </a:r>
            <a:r>
              <a:rPr b="0" lang="fa-IR" sz="2400" spc="-1" strike="noStrike">
                <a:solidFill>
                  <a:srgbClr val="ffffff"/>
                </a:solidFill>
                <a:latin typeface="Arial"/>
                <a:cs typeface="Zar"/>
              </a:rPr>
              <a:t>کن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762120" y="401652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Arial"/>
                <a:cs typeface="Zar"/>
              </a:rPr>
              <a:t>انرژي مورد نياز براي تولي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Arial"/>
                <a:ea typeface="Zar"/>
              </a:rPr>
              <a:t>1 </a:t>
            </a:r>
            <a:r>
              <a:rPr b="0" lang="fa-IR" sz="2400" spc="-1" strike="noStrike">
                <a:solidFill>
                  <a:srgbClr val="ffffff"/>
                </a:solidFill>
                <a:latin typeface="Arial"/>
                <a:cs typeface="Zar"/>
              </a:rPr>
              <a:t>پوند گوشت برابر است ب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0" y="-60948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3809880" y="609480"/>
            <a:ext cx="3581640" cy="1099440"/>
          </a:xfrm>
          <a:prstGeom prst="rect">
            <a:avLst/>
          </a:prstGeom>
          <a:solidFill>
            <a:srgbClr val="00ff00"/>
          </a:solidFill>
          <a:ln w="3240">
            <a:solidFill>
              <a:srgbClr val="00d8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Futura"/>
                <a:cs typeface="Zar"/>
              </a:rPr>
              <a:t>تقريباً </a:t>
            </a:r>
            <a:r>
              <a:rPr b="0" lang="fa-IR" sz="2200" spc="-1" strike="noStrike">
                <a:solidFill>
                  <a:srgbClr val="000000"/>
                </a:solidFill>
                <a:latin typeface="Futura"/>
                <a:ea typeface="Zar"/>
              </a:rPr>
              <a:t>90</a:t>
            </a:r>
            <a:r>
              <a:rPr b="0" lang="fa-IR" sz="2200" spc="-1" strike="noStrike">
                <a:solidFill>
                  <a:srgbClr val="000000"/>
                </a:solidFill>
                <a:latin typeface="Futura"/>
                <a:ea typeface="Zar"/>
              </a:rPr>
              <a:t> % همه انواع گياهان و حيوانات، در جنگل</a:t>
            </a:r>
            <a:r>
              <a:rPr b="0" lang="fa-IR" sz="100" spc="-1" strike="noStrike">
                <a:solidFill>
                  <a:srgbClr val="000000"/>
                </a:solidFill>
                <a:latin typeface="Futura"/>
                <a:ea typeface="Zar"/>
              </a:rPr>
              <a:t> </a:t>
            </a:r>
            <a:r>
              <a:rPr b="0" lang="fa-IR" sz="2200" spc="-1" strike="noStrike">
                <a:solidFill>
                  <a:srgbClr val="000000"/>
                </a:solidFill>
                <a:latin typeface="Futura"/>
                <a:cs typeface="Zar"/>
              </a:rPr>
              <a:t>هاي استوايي يافت مي</a:t>
            </a:r>
            <a:r>
              <a:rPr b="0" lang="fa-IR" sz="100" spc="-1" strike="noStrike">
                <a:solidFill>
                  <a:srgbClr val="000000"/>
                </a:solidFill>
                <a:latin typeface="Futura"/>
                <a:ea typeface="Zar"/>
              </a:rPr>
              <a:t> </a:t>
            </a:r>
            <a:r>
              <a:rPr b="0" lang="fa-IR" sz="2200" spc="-1" strike="noStrike">
                <a:solidFill>
                  <a:srgbClr val="000000"/>
                </a:solidFill>
                <a:latin typeface="Futura"/>
                <a:cs typeface="Zar"/>
              </a:rPr>
              <a:t>شون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2057400" y="4572000"/>
            <a:ext cx="3124080" cy="1434600"/>
          </a:xfrm>
          <a:prstGeom prst="rect">
            <a:avLst/>
          </a:prstGeom>
          <a:solidFill>
            <a:srgbClr val="00ff00"/>
          </a:solidFill>
          <a:ln w="3240">
            <a:solidFill>
              <a:srgbClr val="00d8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Futura"/>
                <a:cs typeface="Zar"/>
              </a:rPr>
              <a:t>ساليانه حدود </a:t>
            </a:r>
            <a:r>
              <a:rPr b="0" lang="fa-IR" sz="2200" spc="-1" strike="noStrike">
                <a:solidFill>
                  <a:srgbClr val="000000"/>
                </a:solidFill>
                <a:latin typeface="Futura"/>
                <a:ea typeface="Zar"/>
              </a:rPr>
              <a:t>80</a:t>
            </a:r>
            <a:r>
              <a:rPr b="0" lang="fa-IR" sz="2200" spc="-1" strike="noStrike">
                <a:solidFill>
                  <a:srgbClr val="000000"/>
                </a:solidFill>
                <a:latin typeface="Futura"/>
                <a:ea typeface="Zar"/>
              </a:rPr>
              <a:t>% قطع درختان جنگلي به دامپروري مربوط مي</a:t>
            </a:r>
            <a:r>
              <a:rPr b="0" lang="fa-IR" sz="100" spc="-1" strike="noStrike">
                <a:solidFill>
                  <a:srgbClr val="000000"/>
                </a:solidFill>
                <a:latin typeface="Futura"/>
                <a:ea typeface="Zar"/>
              </a:rPr>
              <a:t> </a:t>
            </a:r>
            <a:r>
              <a:rPr b="0" lang="fa-IR" sz="2200" spc="-1" strike="noStrike">
                <a:solidFill>
                  <a:srgbClr val="000000"/>
                </a:solidFill>
                <a:latin typeface="Futura"/>
                <a:cs typeface="Zar"/>
              </a:rPr>
              <a:t>شو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4"/>
          <p:cNvSpPr/>
          <p:nvPr/>
        </p:nvSpPr>
        <p:spPr>
          <a:xfrm>
            <a:off x="1600200" y="1776240"/>
            <a:ext cx="2514600" cy="25909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6"/>
          <p:cNvSpPr/>
          <p:nvPr/>
        </p:nvSpPr>
        <p:spPr>
          <a:xfrm>
            <a:off x="152280" y="2538360"/>
            <a:ext cx="1219320" cy="12193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20"/>
          <p:cNvSpPr/>
          <p:nvPr/>
        </p:nvSpPr>
        <p:spPr>
          <a:xfrm>
            <a:off x="2854440" y="785880"/>
            <a:ext cx="839520" cy="8380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22"/>
          <p:cNvSpPr/>
          <p:nvPr/>
        </p:nvSpPr>
        <p:spPr>
          <a:xfrm>
            <a:off x="187200" y="785880"/>
            <a:ext cx="839880" cy="8380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4"/>
          <p:cNvSpPr/>
          <p:nvPr/>
        </p:nvSpPr>
        <p:spPr>
          <a:xfrm>
            <a:off x="873000" y="3909960"/>
            <a:ext cx="839880" cy="8380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5"/>
          <p:cNvSpPr/>
          <p:nvPr/>
        </p:nvSpPr>
        <p:spPr>
          <a:xfrm flipH="1">
            <a:off x="3125520" y="1623960"/>
            <a:ext cx="7596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6"/>
          <p:cNvSpPr/>
          <p:nvPr/>
        </p:nvSpPr>
        <p:spPr>
          <a:xfrm flipH="1">
            <a:off x="1372680" y="3071880"/>
            <a:ext cx="228600" cy="759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7"/>
          <p:cNvSpPr/>
          <p:nvPr/>
        </p:nvSpPr>
        <p:spPr>
          <a:xfrm flipV="1">
            <a:off x="1601640" y="3909600"/>
            <a:ext cx="228600" cy="152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8"/>
          <p:cNvSpPr/>
          <p:nvPr/>
        </p:nvSpPr>
        <p:spPr>
          <a:xfrm>
            <a:off x="914400" y="1471680"/>
            <a:ext cx="99072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0"/>
          <p:cNvSpPr/>
          <p:nvPr/>
        </p:nvSpPr>
        <p:spPr>
          <a:xfrm>
            <a:off x="4191120" y="2286000"/>
            <a:ext cx="4952880" cy="244008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a-IR" sz="2200" spc="-1" strike="noStrike">
                <a:solidFill>
                  <a:srgbClr val="ffffff"/>
                </a:solidFill>
                <a:latin typeface="Futura"/>
                <a:cs typeface="Zar"/>
              </a:rPr>
              <a:t>براساس گزارش</a:t>
            </a:r>
            <a:r>
              <a:rPr b="0" i="1" lang="fa-IR" sz="100" spc="-1" strike="noStrike">
                <a:solidFill>
                  <a:srgbClr val="ffffff"/>
                </a:solidFill>
                <a:latin typeface="Futura"/>
                <a:ea typeface="Zar"/>
              </a:rPr>
              <a:t> </a:t>
            </a:r>
            <a:r>
              <a:rPr b="0" i="1" lang="fa-IR" sz="2200" spc="-1" strike="noStrike">
                <a:solidFill>
                  <a:srgbClr val="ffffff"/>
                </a:solidFill>
                <a:latin typeface="Futura"/>
                <a:cs typeface="Zar"/>
              </a:rPr>
              <a:t>هاي موجود در رابطه با جنگل</a:t>
            </a:r>
            <a:r>
              <a:rPr b="0" i="1" lang="fa-IR" sz="100" spc="-1" strike="noStrike">
                <a:solidFill>
                  <a:srgbClr val="ffffff"/>
                </a:solidFill>
                <a:latin typeface="Futura"/>
                <a:ea typeface="Zar"/>
              </a:rPr>
              <a:t> </a:t>
            </a:r>
            <a:r>
              <a:rPr b="0" i="1" lang="fa-IR" sz="2200" spc="-1" strike="noStrike">
                <a:solidFill>
                  <a:srgbClr val="ffffff"/>
                </a:solidFill>
                <a:latin typeface="Futura"/>
                <a:cs typeface="Zar"/>
              </a:rPr>
              <a:t>هاي استواي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1bd04"/>
                </a:solidFill>
                <a:latin typeface="Futura"/>
                <a:cs typeface="Zar"/>
              </a:rPr>
              <a:t>در آمريکاي مرکزي، طي </a:t>
            </a:r>
            <a:r>
              <a:rPr b="0" lang="fa-IR" sz="2200" spc="-1" strike="noStrike">
                <a:solidFill>
                  <a:srgbClr val="01bd04"/>
                </a:solidFill>
                <a:latin typeface="Futura"/>
                <a:ea typeface="Zar"/>
              </a:rPr>
              <a:t>40</a:t>
            </a:r>
            <a:r>
              <a:rPr b="0" lang="fa-IR" sz="2200" spc="-1" strike="noStrike">
                <a:solidFill>
                  <a:srgbClr val="01bd04"/>
                </a:solidFill>
                <a:latin typeface="Futura"/>
                <a:ea typeface="Zar"/>
              </a:rPr>
              <a:t> سال گذشته حدود </a:t>
            </a:r>
            <a:r>
              <a:rPr b="0" lang="fa-IR" sz="2200" spc="-1" strike="noStrike">
                <a:solidFill>
                  <a:srgbClr val="01bd04"/>
                </a:solidFill>
                <a:latin typeface="Futura"/>
                <a:ea typeface="Zar"/>
              </a:rPr>
              <a:t>40</a:t>
            </a:r>
            <a:r>
              <a:rPr b="0" lang="fa-IR" sz="2200" spc="-1" strike="noStrike">
                <a:solidFill>
                  <a:srgbClr val="01bd04"/>
                </a:solidFill>
                <a:latin typeface="Futura"/>
                <a:ea typeface="Zar"/>
              </a:rPr>
              <a:t> % از جنگل هاي استوايي از بين رفته يا سوزانده شده</a:t>
            </a:r>
            <a:r>
              <a:rPr b="0" lang="fa-IR" sz="100" spc="-1" strike="noStrike">
                <a:solidFill>
                  <a:srgbClr val="01bd04"/>
                </a:solidFill>
                <a:latin typeface="Futura"/>
                <a:ea typeface="Zar"/>
              </a:rPr>
              <a:t> </a:t>
            </a:r>
            <a:r>
              <a:rPr b="0" lang="fa-IR" sz="2200" spc="-1" strike="noStrike">
                <a:solidFill>
                  <a:srgbClr val="01bd04"/>
                </a:solidFill>
                <a:latin typeface="Futura"/>
                <a:cs typeface="Zar"/>
              </a:rPr>
              <a:t>اند؛ اغلب بخاطر تهيه غذاي احشام تا بازار صادرات گوشت آمريکا برقرار باش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1"/>
          <p:cNvSpPr/>
          <p:nvPr/>
        </p:nvSpPr>
        <p:spPr>
          <a:xfrm>
            <a:off x="4114800" y="5638680"/>
            <a:ext cx="4495680" cy="109944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1bd04"/>
                </a:solidFill>
                <a:latin typeface="Futura"/>
                <a:cs typeface="Zar"/>
              </a:rPr>
              <a:t>يک رژيم غذايي گياهي به يک هفتم زمين</a:t>
            </a:r>
            <a:r>
              <a:rPr b="0" lang="fa-IR" sz="100" spc="-1" strike="noStrike">
                <a:solidFill>
                  <a:srgbClr val="01bd04"/>
                </a:solidFill>
                <a:latin typeface="Futura"/>
                <a:ea typeface="Zar"/>
              </a:rPr>
              <a:t> </a:t>
            </a:r>
            <a:r>
              <a:rPr b="0" lang="fa-IR" sz="2200" spc="-1" strike="noStrike">
                <a:solidFill>
                  <a:srgbClr val="01bd04"/>
                </a:solidFill>
                <a:latin typeface="Futura"/>
                <a:cs typeface="Zar"/>
              </a:rPr>
              <a:t>هاي مورد نياز براي رژيم غذايي همراه با گوشت، احتياج دار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20:05:39Z</dcterms:created>
  <dc:creator>Honors College</dc:creator>
  <dc:description/>
  <dc:language>en-US</dc:language>
  <cp:lastModifiedBy> </cp:lastModifiedBy>
  <dcterms:modified xsi:type="dcterms:W3CDTF">2009-02-21T00:10:31Z</dcterms:modified>
  <cp:revision>346</cp:revision>
  <dc:subject/>
  <dc:title>SAVEtheWORLD</dc:title>
</cp:coreProperties>
</file>