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695-95E4-4B18-A9CF-CFADE668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86E-FCE5-4D6C-B783-5FFD6265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EFF-857A-4ABD-BC68-C939493F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60A-4B8C-480A-AE82-E3DF05C1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495-40BF-4937-BB28-F176496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2D6-F969-43C2-A416-ED1B717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FCA-097C-4712-8140-8C10A28B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6DF-FC28-411A-ADDE-FD5626F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3A9-5075-43C0-94E6-149E478F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DF8-C650-4C07-A773-B66F6B2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A26-4E6C-486D-95C4-427CC06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939-3412-4B95-B441-4748D214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549E-E882-425F-B69C-24C17B6F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LA mayor piscina esta ubicada en el hotel San Alfonso Del Mar, en C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Con 1 km de extension de 80 mil m² de área reconocida por el libro deGuinness, con dos record de esta cl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LA piscina tiene una capacidad para 250 mil m³ de água, o sea, un equivalente a 6 mil piscinas norm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L a mayor piscina del mundo costó cerca de US$ 1,5 billones para ser construída y su mantenimiento depende de otros US$ 4 millones al 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Ademas de nadar, en la mayor piscina del mundo es posible também andar de vela, y utilizar un serviço de barco que transporta a los usuários de un extremo a otro del hotel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08:48Z</dcterms:created>
  <dc:creator>p421</dc:creator>
  <dc:description/>
  <dc:language>en-US</dc:language>
  <cp:lastModifiedBy>WinuE</cp:lastModifiedBy>
  <dcterms:modified xsi:type="dcterms:W3CDTF">2008-01-30T13:27:23Z</dcterms:modified>
  <cp:revision>5</cp:revision>
  <dc:subject/>
  <dc:title>Slide 1</dc:title>
</cp:coreProperties>
</file>