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E316-21BB-42E4-83AB-B7FE6AC8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4C33-56ED-4C5D-8159-8D0AA723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D2C3-1060-4F5F-B284-4EA2C40C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ED7C-78E3-4A63-AAB2-4AFDA6D1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667-DBC6-4B79-AB4A-E2DE0E10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F692-F6D9-43D0-B013-340D952E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D77-0886-47A7-9C3E-DB1CA5E5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310A-18F8-42F5-B0AD-F8032C38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B23-5279-440E-B536-6FCB4765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DE5-65D9-49AD-81CB-DE4CA40C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41D-BC06-4A2D-A8F7-DF6B12A2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4F1-3B31-488E-9533-C3B6007C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B5AD-7279-41F6-BF96-84B5B5073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03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8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6699ff"/>
                </a:solidFill>
                <a:latin typeface="Arial"/>
              </a:rPr>
              <a:t>LA mayor piscina esta ubicada en el hotel San Alfonso Del Mar, en Ch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6699ff"/>
                </a:solidFill>
                <a:latin typeface="Arial"/>
              </a:rPr>
              <a:t>Con 1 km de extension de 80 mil m² de área reconocida por el libro deGuinness, con dos record de esta cl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6699ff"/>
                </a:solidFill>
                <a:latin typeface="Arial"/>
              </a:rPr>
              <a:t>LA piscina tiene una capacidad para 250 mil m³ de água, o sea, un equivalente a 6 mil piscinas norm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6699ff"/>
                </a:solidFill>
                <a:latin typeface="Arial"/>
              </a:rPr>
              <a:t>L a mayor piscina del mundo costó cerca de US$ 1,5 billones para ser construída y su mantenimiento depende de otros US$ 4 millones al 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6699ff"/>
                </a:solidFill>
                <a:latin typeface="Arial"/>
              </a:rPr>
              <a:t>Ademas de nadar, en la mayor piscina del mundo es posible também andar de vela, y utilizar un serviço de barco que transporta a los usuários de un extremo a otro del hotel.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99880"/>
            <a:ext cx="914400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8:08:48Z</dcterms:created>
  <dc:creator>p421</dc:creator>
  <dc:description/>
  <dc:language>en-US</dc:language>
  <cp:lastModifiedBy>WinuE</cp:lastModifiedBy>
  <dcterms:modified xsi:type="dcterms:W3CDTF">2008-01-30T13:27:23Z</dcterms:modified>
  <cp:revision>5</cp:revision>
  <dc:subject/>
  <dc:title>Slide 1</dc:title>
</cp:coreProperties>
</file>