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%D8%BA%D9%88%D9%84%D8%BA%D9%88%D8%AB%D8%A7%20%D9%85%D9%88%D8%B3%D9%8A%D9%82%D9%89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430-17A9-4D32-AFD8-14D12E9A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AB3-946B-4494-B58F-B30AD30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D25-0519-4EEB-8298-789814C8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F4C-CC94-4A80-9CD0-14321D3D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85C-8289-4528-8F21-F2781EE2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DE8-61DE-4BE5-9AB9-FC3F0F69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EA1-4B48-4EFF-97C6-58221AE3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A2A-7D1F-48E5-9BC9-A1D8C10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3F0-86C2-4E39-B5B9-2000B91C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575-EB57-4B78-9F70-26A0C5B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CFD-F82D-4963-9A69-E2FB8ACE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4B1-0F7E-4DE2-89F7-28B053F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1C0B-F3FD-45E4-90CB-79950C75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&#1594;&#1608;&#1604;&#1594;&#1608;&#1579;&#1575;%20&#1605;&#1608;&#1587;&#1610;&#1602;&#1609;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2492280"/>
            <a:ext cx="3168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علماء دير المحرق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zoom dir="out"/>
    <p:sndAc>
      <p:stSnd>
        <p:snd r:embed="rId4" name="%D8%BA%D9%88%D9%84%D8%BA%D9%88%D8%AB%D8%A7%20%D9%85%D9%88%D8%B3%D9%8A%D9%82%D9%8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3547080"/>
            <a:ext cx="57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وفي يوليو عام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1955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م حصل على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دكتوراه الآداب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–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والدراسات القبطية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 من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جامعة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مانشستر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بتقدير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إمتياز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4600" y="4311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ُ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سم أرشي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د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اكون عا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4720" y="4508640"/>
            <a:ext cx="388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راهباً فى الدير المحرق عا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9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 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قس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ثم قمصاً فى يوني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ه عا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9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436572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قفاً للدراسات اللاهوتية العليا والثقافة القبطية والبحث العلم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يو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ماي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9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7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 بيد قداسة البابا كيرلس الساد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3762720"/>
            <a:ext cx="461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ع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ُ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ين مدرساً لمادة اللاهوت والفلسفة فى الكلية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إكليريكية بالقاهرة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ثم أستاذاً عام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94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2000" y="3716280"/>
            <a:ext cx="554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كيل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ً 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كل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ئيس المجلس الأعلى لمدارس الأحد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، 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ستاذا ورئيس قسم اللاهوت بمعهد الدراسات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ث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ديراً لمعهد الدراسات القبطية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40000" y="35611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600" spc="-1" strike="noStrike">
                <a:solidFill>
                  <a:srgbClr val="66ffff"/>
                </a:solidFill>
                <a:latin typeface="Arial"/>
                <a:cs typeface="Simplified Arabic"/>
              </a:rPr>
              <a:t>سكرتيراً للشئون الدينية لقداسة البابا كيرلس </a:t>
            </a:r>
            <a:r>
              <a:rPr b="1" lang="ar-SA" sz="3600" spc="-1" strike="noStrike">
                <a:solidFill>
                  <a:srgbClr val="66ffff"/>
                </a:solidFill>
                <a:latin typeface="Arial"/>
                <a:ea typeface="Simplified Arabic"/>
              </a:rPr>
              <a:t>196</a:t>
            </a:r>
            <a:r>
              <a:rPr b="1" lang="ar-EG" sz="3600" spc="-1" strike="noStrike">
                <a:solidFill>
                  <a:srgbClr val="66ffff"/>
                </a:solidFill>
                <a:latin typeface="Arial"/>
                <a:ea typeface="Simplified Arabic"/>
              </a:rPr>
              <a:t>2</a:t>
            </a:r>
            <a:r>
              <a:rPr b="1" lang="ar-EG" sz="3600" spc="-1" strike="noStrike">
                <a:solidFill>
                  <a:srgbClr val="66ffff"/>
                </a:solidFill>
                <a:latin typeface="Arial"/>
                <a:cs typeface="Simplified Arabic"/>
              </a:rPr>
              <a:t>م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3716280"/>
            <a:ext cx="554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ممثل الكنائس الأرثوذكسية لدى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 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لجنة الرهبنة والإيمان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بمجلس الكنائس العالم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عضو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الم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جلس الحكوم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للتعليم المسيحى بالمدارس المص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4560" y="2831760"/>
            <a:ext cx="691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عضو ورئيس لجنة الترجمة العربية للكتاب المقدس ال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تي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شكل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تها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 دار المعارف بالقاهرة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ar-EG" sz="3200" spc="-1" strike="noStrike">
                <a:solidFill>
                  <a:srgbClr val="66ffff"/>
                </a:solidFill>
                <a:latin typeface="Arial"/>
              </a:rPr>
              <a:t> 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عضو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ً في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لمجلس القومى للثقافة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نظمة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التضامن ا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لأ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فر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أسيوية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جلس الكنائس العالمى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جلس كناس الشرق الأوسط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جلس كنائس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إف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ريقيا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433692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ام بتأليف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(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6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2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ؤلفاً للمقررات التى تدر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ّ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س فى الكلية الإكليري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32000" y="1198440"/>
            <a:ext cx="2592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عالم الجليل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35280" y="450864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3300"/>
                </a:solidFill>
                <a:latin typeface="Arial"/>
              </a:rPr>
              <a:t>وكتب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مقالات كثيرة فى موسوعات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كتب ومجلات وصحف مصرية وعالمية بلغات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</a:rPr>
              <a:t>متعددة فكان يجيد لغات كث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08360" y="103752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ccff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وعظ وخطب في كنائس وجوامع وها هو يخطب في مسجد بدر بمديرية التحرير يوم الجمعة 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21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 يوليو 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1967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م</a:t>
            </a:r>
            <a:r>
              <a:rPr b="0" lang="en-US" sz="36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8000" y="389088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ccff"/>
                </a:solidFill>
                <a:latin typeface="Arial"/>
                <a:cs typeface="Simplified Arabic"/>
              </a:rPr>
              <a:t>وقد تتلمذ عليه وعلى مراجعه كثيرون وكان ضمن الأساتذة الذين درّسوا للبابا شنودة في الكلية الإكليري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511812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ورغم علمه الغزير فقد تمتع ببساطة القديسين وبراءة الأطف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58920" y="363384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  <a:cs typeface="Simplified Arabic"/>
              </a:rPr>
              <a:t>دافع عن لاهوت السيد المسيح علناً في كتبه ومقالاته وعظ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7080" y="4292640"/>
            <a:ext cx="37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أحب الكنيسة وأخلص   لها ودافع عنها وعاش طقوسها بروح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76520" y="39751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ff"/>
                </a:solidFill>
                <a:latin typeface="Arial"/>
              </a:rPr>
              <a:t>كما أحب الصلاة وتميزت صلاته بالعمق والخشو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40000" y="4686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وهنا يصلي البصخة المقدسة    مع قداسة البابا شنودة الثال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91628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وكان دائم التشفع بالعذراء مريم والشهداء والقديس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27640" y="458136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يعد أنبا غريغوريوس من الشخصيات الوطنية فقد أحب بلده وأخلص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788000" y="3141720"/>
            <a:ext cx="2519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أنبا غريغوريوس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86200" y="325368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وفي النهاية مرض فتنيح بسلام بعد حياة نلخصها في كلمتين كما قال البابا شنود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التكريس، العل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508720" y="3718080"/>
            <a:ext cx="122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اراس المحرقي</a:t>
            </a:r>
            <a:endParaRPr b="1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14920" y="1197000"/>
            <a:ext cx="2665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صلاته تكون معنا آمين</a:t>
            </a:r>
            <a:endParaRPr b="1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0" y="423396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3300"/>
                </a:solidFill>
                <a:latin typeface="Arial"/>
              </a:rPr>
              <a:t>ولد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وهيب عطا</a:t>
            </a:r>
            <a:r>
              <a:rPr b="1" lang="ar-EG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الله جرجس</a:t>
            </a:r>
            <a:r>
              <a:rPr b="1" lang="ar-EG" sz="3600" spc="-1" strike="noStrike">
                <a:solidFill>
                  <a:srgbClr val="ff3300"/>
                </a:solidFill>
                <a:latin typeface="Arial"/>
              </a:rPr>
              <a:t> بأسوان يوم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أكتوبر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1919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437832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حصل على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البكالوريا </a:t>
            </a: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في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يوليو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1936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 وكان من </a:t>
            </a: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ال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أوائ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9280" y="3357720"/>
            <a:ext cx="59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ألحّت 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أسرته ل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يد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خل كلية الطب ولكنه أصر 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أن ي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لتحق بالكلية الإكليريكية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 وقد حصل على البكالوريوس 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بتقدير 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مت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ي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از 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عام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1939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417996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ليسانس الآداب (فلسفة) من جامعة القاهرة بتقدير جيد جداً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في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يوليو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عام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1944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2997360"/>
            <a:ext cx="36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و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دبلوم معهد الآثار المصري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من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 جامعة القاهرة بتقدير جيد جداً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عام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1951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0920" y="379116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وقد حصل على صورة 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الملك فارو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ق 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لتفوق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ه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 فى إمتحان دبلوم معهد ا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لآث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ار المصري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2:08:30Z</dcterms:created>
  <dc:creator>الله محبة</dc:creator>
  <dc:description/>
  <dc:language>en-US</dc:language>
  <cp:lastModifiedBy>الله محبة</cp:lastModifiedBy>
  <dcterms:modified xsi:type="dcterms:W3CDTF">2010-12-21T12:18:01Z</dcterms:modified>
  <cp:revision>1</cp:revision>
  <dc:subject/>
  <dc:title>الشريحة 1</dc:title>
</cp:coreProperties>
</file>