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%D8%BA%D9%88%D9%84%D8%BA%D9%88%D8%AB%D8%A7%20%D9%85%D9%88%D8%B3%D9%8A%D9%82%D9%89.wav" ContentType="audio/x-wav"/>
  <Override PartName="/ppt/media/image17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6AA-19F4-4D45-877C-2ACD7418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3801-284A-4C8C-9A0A-E7D9A61D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F2F0-4023-4548-B9BF-E6B022AD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5E8-3B08-4220-9126-A5D65539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64A0-EB70-4D78-8A15-ECF71CC8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619B-1D4E-4889-9396-17BD7986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464A-5E55-4479-AC84-CF5B8305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17BA-58CB-4CFE-A371-33E332F5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7C87-AF4E-43EA-A87E-F63DE41A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2712-3ABF-4CC6-83CF-7117D916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BFE6-68B2-4BBA-85A3-4136368A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7418-18BC-4AEB-B882-0161B516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7683-5851-4B17-AE5D-5006946B8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&#1594;&#1608;&#1604;&#1594;&#1608;&#1579;&#1575;%20&#1605;&#1608;&#1587;&#1610;&#1602;&#1609;.wav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987640" y="2492280"/>
            <a:ext cx="316872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علماء دير المحرق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0000">
    <p:zoom dir="out"/>
    <p:sndAc>
      <p:stSnd>
        <p:snd r:embed="rId4" name="%D8%BA%D9%88%D9%84%D8%BA%D9%88%D8%AB%D8%A7%20%D9%85%D9%88%D8%B3%D9%8A%D9%82%D9%89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63640" y="3547080"/>
            <a:ext cx="575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66ffff"/>
                </a:solidFill>
                <a:latin typeface="Arial"/>
              </a:rPr>
              <a:t>وفي يوليو عام 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</a:rPr>
              <a:t>1955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</a:rPr>
              <a:t>م حصل على 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</a:rPr>
              <a:t>دكتوراه الآداب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– 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</a:rPr>
              <a:t>والدراسات القبطية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</a:rPr>
              <a:t> من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</a:rPr>
              <a:t>جامعة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</a:rPr>
              <a:t> مانشستر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</a:rPr>
              <a:t>بتقدير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</a:rPr>
              <a:t>إمتياز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44600" y="431136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ر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ُ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سم أرشي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د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ياكون عام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9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44720" y="4508640"/>
            <a:ext cx="388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و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راهباً فى الدير المحرق عام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19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م و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قس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اً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ثم قمصاً فى يوني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ه عام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19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1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19280" y="4365720"/>
            <a:ext cx="576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و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أسقفاً للدراسات اللاهوتية العليا والثقافة القبطية والبحث العلمى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يوم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10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مايو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19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7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م بيد قداسة البابا كيرلس الساد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87280" y="3762720"/>
            <a:ext cx="4610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ع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ُ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ين مدرساً لمادة اللاهوت والفلسفة فى الكلية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إكليريكية بالقاهرة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ثم أستاذاً عام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94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ipe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32000" y="3716280"/>
            <a:ext cx="5545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و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كيل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ً ل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لكلية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و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رئيس المجلس الأعلى لمدارس الأحد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9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م، و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أستاذا ورئيس قسم اللاهوت بمعهد الدراسات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9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ثم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ديراً لمعهد الدراسات القبطية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40000" y="3561120"/>
            <a:ext cx="45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66ffff"/>
                </a:solidFill>
                <a:latin typeface="Arial"/>
                <a:cs typeface="Simplified Arabic"/>
              </a:rPr>
              <a:t>و</a:t>
            </a:r>
            <a:r>
              <a:rPr b="1" lang="ar-SA" sz="3600" spc="-1" strike="noStrike">
                <a:solidFill>
                  <a:srgbClr val="66ffff"/>
                </a:solidFill>
                <a:latin typeface="Arial"/>
                <a:cs typeface="Simplified Arabic"/>
              </a:rPr>
              <a:t>سكرتيراً للشئون الدينية لقداسة البابا كيرلس </a:t>
            </a:r>
            <a:r>
              <a:rPr b="1" lang="ar-SA" sz="3600" spc="-1" strike="noStrike">
                <a:solidFill>
                  <a:srgbClr val="66ffff"/>
                </a:solidFill>
                <a:latin typeface="Arial"/>
                <a:ea typeface="Simplified Arabic"/>
              </a:rPr>
              <a:t>196</a:t>
            </a:r>
            <a:r>
              <a:rPr b="1" lang="ar-EG" sz="3600" spc="-1" strike="noStrike">
                <a:solidFill>
                  <a:srgbClr val="66ffff"/>
                </a:solidFill>
                <a:latin typeface="Arial"/>
                <a:ea typeface="Simplified Arabic"/>
              </a:rPr>
              <a:t>2</a:t>
            </a:r>
            <a:r>
              <a:rPr b="1" lang="ar-EG" sz="3600" spc="-1" strike="noStrike">
                <a:solidFill>
                  <a:srgbClr val="66ffff"/>
                </a:solidFill>
                <a:latin typeface="Arial"/>
                <a:cs typeface="Simplified Arabic"/>
              </a:rPr>
              <a:t>م</a:t>
            </a:r>
            <a:r>
              <a:rPr b="1" lang="en-US" sz="3600" spc="-1" strike="noStrike">
                <a:solidFill>
                  <a:srgbClr val="66ffff"/>
                </a:solidFill>
                <a:latin typeface="Arial"/>
                <a:ea typeface="Simplified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ircl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63640" y="3716280"/>
            <a:ext cx="5543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3300"/>
                </a:solidFill>
                <a:latin typeface="Arial"/>
                <a:cs typeface="Simplified Arabic"/>
              </a:rPr>
              <a:t>و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cs typeface="Simplified Arabic"/>
              </a:rPr>
              <a:t>ممثل الكنائس الأرثوذكسية لدى</a:t>
            </a:r>
            <a:r>
              <a:rPr b="1" lang="ar-EG" sz="3200" spc="-1" strike="noStrike">
                <a:solidFill>
                  <a:srgbClr val="ff3300"/>
                </a:solidFill>
                <a:latin typeface="Arial"/>
                <a:ea typeface="Simplified Arabic"/>
              </a:rPr>
              <a:t>  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ea typeface="Simplified Arabic"/>
              </a:rPr>
              <a:t> لجنة الرهبنة والإيمان</a:t>
            </a:r>
            <a:r>
              <a:rPr b="1" lang="ar-EG" sz="3200" spc="-1" strike="noStrike">
                <a:solidFill>
                  <a:srgbClr val="ff3300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cs typeface="Simplified Arabic"/>
              </a:rPr>
              <a:t>بمجلس الكنائس العالمى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Simplified Arabic"/>
              </a:rPr>
              <a:t> </a:t>
            </a:r>
            <a:r>
              <a:rPr b="1" lang="ar-EG" sz="3200" spc="-1" strike="noStrike">
                <a:solidFill>
                  <a:srgbClr val="ff3300"/>
                </a:solidFill>
                <a:latin typeface="Arial"/>
                <a:cs typeface="Simplified Arabic"/>
              </a:rPr>
              <a:t>و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cs typeface="Simplified Arabic"/>
              </a:rPr>
              <a:t>عضو </a:t>
            </a:r>
            <a:r>
              <a:rPr b="1" lang="ar-EG" sz="3200" spc="-1" strike="noStrike">
                <a:solidFill>
                  <a:srgbClr val="ff3300"/>
                </a:solidFill>
                <a:latin typeface="Arial"/>
                <a:cs typeface="Simplified Arabic"/>
              </a:rPr>
              <a:t>الم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cs typeface="Simplified Arabic"/>
              </a:rPr>
              <a:t>جلس الحكوم</a:t>
            </a:r>
            <a:r>
              <a:rPr b="1" lang="ar-EG" sz="3200" spc="-1" strike="noStrike">
                <a:solidFill>
                  <a:srgbClr val="ff3300"/>
                </a:solidFill>
                <a:latin typeface="Arial"/>
                <a:cs typeface="Simplified Arabic"/>
              </a:rPr>
              <a:t>ي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ea typeface="Simplified Arabic"/>
              </a:rPr>
              <a:t> للتعليم المسيحى بالمدارس المص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diamond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14560" y="2831760"/>
            <a:ext cx="6913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66ffff"/>
                </a:solidFill>
                <a:latin typeface="Arial"/>
              </a:rPr>
              <a:t>و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</a:rPr>
              <a:t>عضو ورئيس لجنة الترجمة العربية للكتاب المقدس ال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</a:rPr>
              <a:t>تي 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</a:rPr>
              <a:t>شكل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</a:rPr>
              <a:t>تها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</a:rPr>
              <a:t> دار المعارف بالقاهرة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ar-EG" sz="3200" spc="-1" strike="noStrike">
                <a:solidFill>
                  <a:srgbClr val="66ffff"/>
                </a:solidFill>
                <a:latin typeface="Arial"/>
              </a:rPr>
              <a:t> و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عضو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ً في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  <a:ea typeface="Simplified Arabic"/>
              </a:rPr>
              <a:t> 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ا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لمجلس القومى للثقافة 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و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منظمة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التضامن ا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لأ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فر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و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أسيوية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  <a:ea typeface="Simplified Arabic"/>
              </a:rPr>
              <a:t> 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و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مجلس الكنائس العالمى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  <a:ea typeface="Simplified Arabic"/>
              </a:rPr>
              <a:t> 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و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مجلس كناس الشرق الأوسط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  <a:ea typeface="Simplified Arabic"/>
              </a:rPr>
              <a:t> 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و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مجلس كنائس </a:t>
            </a:r>
            <a:r>
              <a:rPr b="1" lang="ar-EG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إف</a:t>
            </a:r>
            <a:r>
              <a:rPr b="1" lang="ar-SA" sz="3200" spc="-1" strike="noStrike">
                <a:solidFill>
                  <a:srgbClr val="66ffff"/>
                </a:solidFill>
                <a:latin typeface="Arial"/>
                <a:cs typeface="Simplified Arabic"/>
              </a:rPr>
              <a:t>ريقيا 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  <a:ea typeface="Simplified Arabic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in" orient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47640" y="4336920"/>
            <a:ext cx="58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قام بتأليف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(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16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)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كتاب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و(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2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)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مؤلفاً للمقررات التى تدر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ّ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س فى الكلية الإكليريك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32000" y="1198440"/>
            <a:ext cx="259236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العالم الجليل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7000">
    <p:wheel spokes="8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35280" y="4508640"/>
            <a:ext cx="576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3300"/>
                </a:solidFill>
                <a:latin typeface="Arial"/>
              </a:rPr>
              <a:t>وكتب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</a:rPr>
              <a:t>مقالات كثيرة فى موسوعات </a:t>
            </a:r>
            <a:r>
              <a:rPr b="1" lang="ar-EG" sz="3200" spc="-1" strike="noStrike">
                <a:solidFill>
                  <a:srgbClr val="ff3300"/>
                </a:solidFill>
                <a:latin typeface="Arial"/>
              </a:rPr>
              <a:t>و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</a:rPr>
              <a:t>كتب ومجلات وصحف مصرية وعالمية بلغات </a:t>
            </a:r>
            <a:r>
              <a:rPr b="1" lang="ar-EG" sz="3200" spc="-1" strike="noStrike">
                <a:solidFill>
                  <a:srgbClr val="ff3300"/>
                </a:solidFill>
                <a:latin typeface="Arial"/>
              </a:rPr>
              <a:t>متعددة فكان يجيد لغات كثي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l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708360" y="1037520"/>
            <a:ext cx="453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ccff"/>
              </a:buClr>
              <a:buSzPct val="2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ccff"/>
                </a:solidFill>
                <a:latin typeface="Arial"/>
              </a:rPr>
              <a:t>وعظ وخطب في كنائس وجوامع وها هو يخطب في مسجد بدر بمديرية التحرير يوم الجمعة </a:t>
            </a:r>
            <a:r>
              <a:rPr b="1" lang="ar-EG" sz="3600" spc="-1" strike="noStrike">
                <a:solidFill>
                  <a:srgbClr val="00ccff"/>
                </a:solidFill>
                <a:latin typeface="Arial"/>
              </a:rPr>
              <a:t>21</a:t>
            </a:r>
            <a:r>
              <a:rPr b="1" lang="ar-EG" sz="3600" spc="-1" strike="noStrike">
                <a:solidFill>
                  <a:srgbClr val="00ccff"/>
                </a:solidFill>
                <a:latin typeface="Arial"/>
              </a:rPr>
              <a:t> يوليو </a:t>
            </a:r>
            <a:r>
              <a:rPr b="1" lang="ar-EG" sz="3600" spc="-1" strike="noStrike">
                <a:solidFill>
                  <a:srgbClr val="00ccff"/>
                </a:solidFill>
                <a:latin typeface="Arial"/>
              </a:rPr>
              <a:t>1967</a:t>
            </a:r>
            <a:r>
              <a:rPr b="1" lang="ar-EG" sz="3600" spc="-1" strike="noStrike">
                <a:solidFill>
                  <a:srgbClr val="00ccff"/>
                </a:solidFill>
                <a:latin typeface="Arial"/>
              </a:rPr>
              <a:t>م</a:t>
            </a:r>
            <a:r>
              <a:rPr b="0" lang="en-US" sz="36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edg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8000" y="3890880"/>
            <a:ext cx="532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ccff"/>
                </a:solidFill>
                <a:latin typeface="Arial"/>
                <a:cs typeface="Simplified Arabic"/>
              </a:rPr>
              <a:t>وقد تتلمذ عليه وعلى مراجعه كثيرون وكان ضمن الأساتذة الذين درّسوا للبابا شنودة في الكلية الإكليريك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heel spokes="1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00000" y="511812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ورغم علمه الغزير فقد تمتع ببساطة القديسين وبراءة الأطفا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8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58920" y="3633840"/>
            <a:ext cx="381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Arial"/>
                <a:cs typeface="Simplified Arabic"/>
              </a:rPr>
              <a:t>دافع عن لاهوت السيد المسيح علناً في كتبه ومقالاته وعظات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ipe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57080" y="4292640"/>
            <a:ext cx="374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أحب الكنيسة وأخلص   لها ودافع عنها وعاش طقوسها بروحان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ipe dir="l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76520" y="397512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99ff"/>
                </a:solidFill>
                <a:latin typeface="Arial"/>
              </a:rPr>
              <a:t>كما أحب الصلاة وتميزت صلاته بالعمق والخشو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blinds dir="horz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340000" y="468648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وهنا يصلي البصخة المقدسة    مع قداسة البابا شنودة الثال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in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03280" y="1916280"/>
            <a:ext cx="26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وكان دائم التشفع بالعذراء مريم والشهداء والقديس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hecker dir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0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427640" y="4581360"/>
            <a:ext cx="367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ويعد أنبا غريغوريوس من الشخصيات الوطنية فقد أحب بلده وأخلص ل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mb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788000" y="3141720"/>
            <a:ext cx="25192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الأنبا غريغوريوس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7000">
    <p:blinds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86200" y="3253680"/>
            <a:ext cx="44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وفي النهاية مرض فتنيح بسلام بعد حياة نلخصها في كلمتين كما قال البابا شنودة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ar-EG" sz="3600" spc="-1" strike="noStrike">
                <a:solidFill>
                  <a:srgbClr val="000000"/>
                </a:solidFill>
                <a:latin typeface="Arial"/>
              </a:rPr>
              <a:t> التكريس، العلم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newsflash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5508720" y="3718080"/>
            <a:ext cx="1224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كاراس المحرقي</a:t>
            </a:r>
            <a:endParaRPr b="1" lang="en-US" sz="1800" spc="1" strike="noStrike">
              <a:ln w="9360">
                <a:solidFill>
                  <a:srgbClr val="66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714920" y="1197000"/>
            <a:ext cx="26654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صلاته تكون معنا آمين</a:t>
            </a:r>
            <a:endParaRPr b="1" lang="en-US" sz="1800" spc="1" strike="noStrike">
              <a:ln w="9360">
                <a:solidFill>
                  <a:srgbClr val="66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7000">
    <p:diamond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15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1155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115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15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115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115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24000" y="4233960"/>
            <a:ext cx="51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3300"/>
                </a:solidFill>
                <a:latin typeface="Arial"/>
              </a:rPr>
              <a:t>ولد 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وهيب عطا</a:t>
            </a:r>
            <a:r>
              <a:rPr b="1" lang="ar-EG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الله جرجس</a:t>
            </a:r>
            <a:r>
              <a:rPr b="1" lang="ar-EG" sz="3600" spc="-1" strike="noStrike">
                <a:solidFill>
                  <a:srgbClr val="ff3300"/>
                </a:solidFill>
                <a:latin typeface="Arial"/>
              </a:rPr>
              <a:t> بأسوان يوم 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13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 أكتوبر 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1919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blinds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50920" y="4378320"/>
            <a:ext cx="49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333399"/>
                </a:solidFill>
                <a:latin typeface="Arial"/>
              </a:rPr>
              <a:t>حصل على </a:t>
            </a: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البكالوريا </a:t>
            </a:r>
            <a:r>
              <a:rPr b="1" lang="ar-EG" sz="3600" spc="-1" strike="noStrike">
                <a:solidFill>
                  <a:srgbClr val="333399"/>
                </a:solidFill>
                <a:latin typeface="Arial"/>
              </a:rPr>
              <a:t>في</a:t>
            </a: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EG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يوليو </a:t>
            </a: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1936</a:t>
            </a: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م وكان من </a:t>
            </a:r>
            <a:r>
              <a:rPr b="1" lang="ar-EG" sz="3600" spc="-1" strike="noStrike">
                <a:solidFill>
                  <a:srgbClr val="333399"/>
                </a:solidFill>
                <a:latin typeface="Arial"/>
              </a:rPr>
              <a:t>ال</a:t>
            </a: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أوائ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19280" y="3357720"/>
            <a:ext cx="59770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bbe0e3"/>
                </a:solidFill>
                <a:latin typeface="Arial"/>
              </a:rPr>
              <a:t>ألحّت </a:t>
            </a:r>
            <a:r>
              <a:rPr b="1" lang="ar-SA" sz="3200" spc="-1" strike="noStrike">
                <a:solidFill>
                  <a:srgbClr val="bbe0e3"/>
                </a:solidFill>
                <a:latin typeface="Arial"/>
              </a:rPr>
              <a:t>أسرته ل</a:t>
            </a:r>
            <a:r>
              <a:rPr b="1" lang="ar-EG" sz="3200" spc="-1" strike="noStrike">
                <a:solidFill>
                  <a:srgbClr val="bbe0e3"/>
                </a:solidFill>
                <a:latin typeface="Arial"/>
              </a:rPr>
              <a:t>يد</a:t>
            </a:r>
            <a:r>
              <a:rPr b="1" lang="ar-SA" sz="3200" spc="-1" strike="noStrike">
                <a:solidFill>
                  <a:srgbClr val="bbe0e3"/>
                </a:solidFill>
                <a:latin typeface="Arial"/>
              </a:rPr>
              <a:t>خل كلية الطب ولكنه أصر </a:t>
            </a:r>
            <a:r>
              <a:rPr b="1" lang="ar-EG" sz="3200" spc="-1" strike="noStrike">
                <a:solidFill>
                  <a:srgbClr val="bbe0e3"/>
                </a:solidFill>
                <a:latin typeface="Arial"/>
              </a:rPr>
              <a:t>أن ي</a:t>
            </a:r>
            <a:r>
              <a:rPr b="1" lang="ar-SA" sz="3200" spc="-1" strike="noStrike">
                <a:solidFill>
                  <a:srgbClr val="bbe0e3"/>
                </a:solidFill>
                <a:latin typeface="Arial"/>
              </a:rPr>
              <a:t>لتحق بالكلية الإكليريكية</a:t>
            </a:r>
            <a:r>
              <a:rPr b="1" lang="ar-EG" sz="3200" spc="-1" strike="noStrike">
                <a:solidFill>
                  <a:srgbClr val="bbe0e3"/>
                </a:solidFill>
                <a:latin typeface="Arial"/>
              </a:rPr>
              <a:t> وقد حصل على البكالوريوس </a:t>
            </a:r>
            <a:r>
              <a:rPr b="1" lang="ar-SA" sz="3200" spc="-1" strike="noStrike">
                <a:solidFill>
                  <a:srgbClr val="bbe0e3"/>
                </a:solidFill>
                <a:latin typeface="Arial"/>
              </a:rPr>
              <a:t>بتقدير </a:t>
            </a:r>
            <a:r>
              <a:rPr b="1" lang="ar-EG" sz="3200" spc="-1" strike="noStrike">
                <a:solidFill>
                  <a:srgbClr val="bbe0e3"/>
                </a:solidFill>
                <a:latin typeface="Arial"/>
              </a:rPr>
              <a:t>إ</a:t>
            </a:r>
            <a:r>
              <a:rPr b="1" lang="ar-SA" sz="3200" spc="-1" strike="noStrike">
                <a:solidFill>
                  <a:srgbClr val="bbe0e3"/>
                </a:solidFill>
                <a:latin typeface="Arial"/>
              </a:rPr>
              <a:t>مت</a:t>
            </a:r>
            <a:r>
              <a:rPr b="1" lang="ar-EG" sz="3200" spc="-1" strike="noStrike">
                <a:solidFill>
                  <a:srgbClr val="bbe0e3"/>
                </a:solidFill>
                <a:latin typeface="Arial"/>
              </a:rPr>
              <a:t>ي</a:t>
            </a:r>
            <a:r>
              <a:rPr b="1" lang="ar-SA" sz="3200" spc="-1" strike="noStrike">
                <a:solidFill>
                  <a:srgbClr val="bbe0e3"/>
                </a:solidFill>
                <a:latin typeface="Arial"/>
              </a:rPr>
              <a:t>از </a:t>
            </a:r>
            <a:r>
              <a:rPr b="1" lang="ar-EG" sz="3200" spc="-1" strike="noStrike">
                <a:solidFill>
                  <a:srgbClr val="bbe0e3"/>
                </a:solidFill>
                <a:latin typeface="Arial"/>
              </a:rPr>
              <a:t>عام</a:t>
            </a:r>
            <a:r>
              <a:rPr b="1" lang="ar-SA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bbe0e3"/>
                </a:solidFill>
                <a:latin typeface="Arial"/>
              </a:rPr>
              <a:t>1939</a:t>
            </a:r>
            <a:r>
              <a:rPr b="1" lang="ar-SA" sz="3200" spc="-1" strike="noStrike">
                <a:solidFill>
                  <a:srgbClr val="bbe0e3"/>
                </a:solidFill>
                <a:latin typeface="Arial"/>
              </a:rPr>
              <a:t>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58920" y="4179960"/>
            <a:ext cx="41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3300"/>
                </a:solidFill>
                <a:latin typeface="Arial"/>
                <a:cs typeface="Simplified Arabic"/>
              </a:rPr>
              <a:t>و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cs typeface="Simplified Arabic"/>
              </a:rPr>
              <a:t>ليسانس الآداب (فلسفة) من جامعة القاهرة بتقدير جيد جداً </a:t>
            </a:r>
            <a:r>
              <a:rPr b="1" lang="ar-EG" sz="3200" spc="-1" strike="noStrike">
                <a:solidFill>
                  <a:srgbClr val="ff3300"/>
                </a:solidFill>
                <a:latin typeface="Arial"/>
                <a:cs typeface="Simplified Arabic"/>
              </a:rPr>
              <a:t>في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cs typeface="Simplified Arabic"/>
              </a:rPr>
              <a:t>يوليو</a:t>
            </a:r>
            <a:r>
              <a:rPr b="1" lang="ar-EG" sz="3200" spc="-1" strike="noStrike">
                <a:solidFill>
                  <a:srgbClr val="ff3300"/>
                </a:solidFill>
                <a:latin typeface="Arial"/>
                <a:ea typeface="Simplified Arabic"/>
              </a:rPr>
              <a:t> عام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ea typeface="Simplified Arabic"/>
              </a:rPr>
              <a:t>1944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cs typeface="Simplified Arabic"/>
              </a:rPr>
              <a:t>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ircl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92360" y="2997360"/>
            <a:ext cx="367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و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دبلوم معهد الآثار المصرية 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من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 جامعة القاهرة بتقدير جيد جداً 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عام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1951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diamond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50920" y="3791160"/>
            <a:ext cx="50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ccff"/>
                </a:solidFill>
                <a:latin typeface="Arial"/>
              </a:rPr>
              <a:t>وقد حصل على صورة </a:t>
            </a:r>
            <a:r>
              <a:rPr b="1" lang="ar-SA" sz="3600" spc="-1" strike="noStrike">
                <a:solidFill>
                  <a:srgbClr val="00ccff"/>
                </a:solidFill>
                <a:latin typeface="Arial"/>
              </a:rPr>
              <a:t>الملك فارو</a:t>
            </a:r>
            <a:r>
              <a:rPr b="1" lang="ar-EG" sz="3600" spc="-1" strike="noStrike">
                <a:solidFill>
                  <a:srgbClr val="00ccff"/>
                </a:solidFill>
                <a:latin typeface="Arial"/>
              </a:rPr>
              <a:t>ق </a:t>
            </a:r>
            <a:r>
              <a:rPr b="1" lang="ar-SA" sz="3600" spc="-1" strike="noStrike">
                <a:solidFill>
                  <a:srgbClr val="00ccff"/>
                </a:solidFill>
                <a:latin typeface="Arial"/>
              </a:rPr>
              <a:t>لتفوق</a:t>
            </a:r>
            <a:r>
              <a:rPr b="1" lang="ar-EG" sz="3600" spc="-1" strike="noStrike">
                <a:solidFill>
                  <a:srgbClr val="00ccff"/>
                </a:solidFill>
                <a:latin typeface="Arial"/>
              </a:rPr>
              <a:t>ه</a:t>
            </a:r>
            <a:r>
              <a:rPr b="1" lang="ar-SA" sz="3600" spc="-1" strike="noStrike">
                <a:solidFill>
                  <a:srgbClr val="00ccff"/>
                </a:solidFill>
                <a:latin typeface="Arial"/>
              </a:rPr>
              <a:t> فى إمتحان دبلوم معهد ا</a:t>
            </a:r>
            <a:r>
              <a:rPr b="1" lang="ar-EG" sz="3600" spc="-1" strike="noStrike">
                <a:solidFill>
                  <a:srgbClr val="00ccff"/>
                </a:solidFill>
                <a:latin typeface="Arial"/>
              </a:rPr>
              <a:t>لآث</a:t>
            </a:r>
            <a:r>
              <a:rPr b="1" lang="ar-SA" sz="3600" spc="-1" strike="noStrike">
                <a:solidFill>
                  <a:srgbClr val="00ccff"/>
                </a:solidFill>
                <a:latin typeface="Arial"/>
              </a:rPr>
              <a:t>ار المصري</a:t>
            </a:r>
            <a:r>
              <a:rPr b="1" lang="ar-EG" sz="3600" spc="-1" strike="noStrike">
                <a:solidFill>
                  <a:srgbClr val="00ccff"/>
                </a:solidFill>
                <a:latin typeface="Arial"/>
              </a:rPr>
              <a:t>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8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2:08:30Z</dcterms:created>
  <dc:creator>الله محبة</dc:creator>
  <dc:description/>
  <dc:language>en-US</dc:language>
  <cp:lastModifiedBy>الله محبة</cp:lastModifiedBy>
  <dcterms:modified xsi:type="dcterms:W3CDTF">2010-12-21T12:18:01Z</dcterms:modified>
  <cp:revision>1</cp:revision>
  <dc:subject/>
  <dc:title>الشريحة 1</dc:title>
</cp:coreProperties>
</file>