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1BE-83D1-4D61-909E-E95A9427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3DB-F23C-4605-8CD3-FF14A56D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443-BAC8-462F-81E9-F8AEB01B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76C-4A16-4E7E-A45D-B452DFE2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B42-4EA1-43D2-A613-CEFAADFD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0C2-E403-4526-A284-3B2ABF93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79C-9E1C-4ABE-8E36-7C026B04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30C-D1E6-4770-8F32-D5503242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DB9-8CC3-4A34-9D14-7BD9AC27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0C3-36DA-4B38-855B-A52E8632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EE7-290C-42A4-9E9A-997B9672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9CA-6C4A-4044-8052-3E9F13C2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85B1-8EEA-4430-8DFD-76430DED7F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990033"/>
                </a:solidFill>
                <a:latin typeface="Whimsy ICG Heavy"/>
              </a:rPr>
              <a:t>O EGITO ANTIGO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Tutankhamon"/>
          <p:cNvPicPr/>
          <p:nvPr/>
        </p:nvPicPr>
        <p:blipFill>
          <a:blip r:embed="rId2"/>
          <a:stretch/>
        </p:blipFill>
        <p:spPr>
          <a:xfrm>
            <a:off x="1981080" y="1523880"/>
            <a:ext cx="44960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ro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era um dos principais símbolos do faraó. Antes da unificação, o soberano do Alto Egito utilizava 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roa branc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; 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roa vermelh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era usada no Baixo Egito. Quando o Egito passou a ser governado por um único soberano, o faraó, a coroa tornou-se dupla :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vermelha e branc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simbolizando a união dos dois reinos. Ao comandar suas tropas na guerra, o faraó usava 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roa azul.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msotw9_temp0"/>
          <p:cNvPicPr/>
          <p:nvPr/>
        </p:nvPicPr>
        <p:blipFill>
          <a:blip r:embed="rId2"/>
          <a:stretch/>
        </p:blipFill>
        <p:spPr>
          <a:xfrm>
            <a:off x="533520" y="3276720"/>
            <a:ext cx="8001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0033"/>
                </a:solidFill>
                <a:latin typeface="Whimsy ICG Heavy"/>
              </a:rPr>
              <a:t>A PERIODIZAÇÃO DA HISTÓRIA EGÍP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msotw9_temp0"/>
          <p:cNvPicPr/>
          <p:nvPr/>
        </p:nvPicPr>
        <p:blipFill>
          <a:blip r:embed="rId2"/>
          <a:stretch/>
        </p:blipFill>
        <p:spPr>
          <a:xfrm>
            <a:off x="304920" y="1752480"/>
            <a:ext cx="8610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Antigo Impéri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: Durante a maior parte deste longo período, os faraós conseguiram impor sua autoridade ao reino e, auxiliados por seus funcionários, coordenaram a construção de grandes obras públicas, entre elas as pirâmides de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Quéops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Quéfren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e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iquerin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msotw9_temp0"/>
          <p:cNvPicPr/>
          <p:nvPr/>
        </p:nvPicPr>
        <p:blipFill>
          <a:blip r:embed="rId2"/>
          <a:stretch/>
        </p:blipFill>
        <p:spPr>
          <a:xfrm>
            <a:off x="762120" y="2590920"/>
            <a:ext cx="7848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-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pt-BR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Médio Império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: -</a:t>
            </a:r>
            <a:r>
              <a:rPr b="1" lang="pt-BR" sz="2000" spc="-1" strike="noStrike" u="sng">
                <a:solidFill>
                  <a:srgbClr val="008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neste período  os egípcios expandiram seu território em direção ao Sul, conquistando a Núbia, região rica em minerais, entre os quais o ouro. Apesar da prosperidade material, o reino continuou envolvido em guerras e revoltas internas que o enfraqueceram. Isso encorajou os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hicsos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povo originário da Ásia Central, a atravessarem o deserto e invadir o Egito, conquistando-o. A vitória dos hicsos deveu-se ao uso de cavalos e carros de combate, desconhecidos pelos egípcios. O domínio dos hicsos em território egípcio durou mais de 150 an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msotw9_temp0"/>
          <p:cNvPicPr/>
          <p:nvPr/>
        </p:nvPicPr>
        <p:blipFill>
          <a:blip r:embed="rId2"/>
          <a:stretch/>
        </p:blipFill>
        <p:spPr>
          <a:xfrm>
            <a:off x="1676520" y="3124080"/>
            <a:ext cx="5943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-</a:t>
            </a:r>
            <a:r>
              <a:rPr b="1" lang="pt-BR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Novo Império</a:t>
            </a:r>
            <a:r>
              <a:rPr b="1" lang="pt-BR" sz="2400" spc="-1" strike="noStrike" u="sng">
                <a:solidFill>
                  <a:srgbClr val="008000"/>
                </a:solidFill>
                <a:uFillTx/>
                <a:latin typeface="Comic Sans MS"/>
                <a:ea typeface="Times New Roman"/>
              </a:rPr>
              <a:t>: -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ste período inicia-se com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 expulsão dos hicsos.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mósis,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o líder militar da luta contra o invasor, inaugurou uma nova dinastia. Os faraós do Novo Império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rganizaram um poderoso exército com cavalaria e carros de combate e adotaram um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olítica expansionist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 Pela força,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econquistaram a Núbia, ocuparam a Síria, a Fenícia e a Palestina e estenderam seus domínios até o rio Eufrates.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epois de efetuar estas conquistas, o governo egípcio passou a exigir pesados impostos dos povos dominados. Essa situação provocou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voltas sociais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dentro do Egito, o que, somado às sublevações dos povos conquistados contra a cobrança de impostos abusivos, acabou debilitando o poder do faraó.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 partir do século VIII a.C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, o Egito foi sucessivamente invadido por núbios, assírios e persas, até que, em 332 a.C. foi conquistado por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exandre Magn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" y="0"/>
            <a:ext cx="8610480" cy="6553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0033"/>
                </a:solidFill>
                <a:latin typeface="Whimsy ICG Heavy"/>
              </a:rPr>
              <a:t>A SOCIEDADE EGÍP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msotw9_temp0"/>
          <p:cNvPicPr/>
          <p:nvPr/>
        </p:nvPicPr>
        <p:blipFill>
          <a:blip r:embed="rId2"/>
          <a:stretch/>
        </p:blipFill>
        <p:spPr>
          <a:xfrm>
            <a:off x="609480" y="990720"/>
            <a:ext cx="7925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0033"/>
                </a:solidFill>
                <a:latin typeface="Whimsy ICG Heavy"/>
              </a:rPr>
              <a:t>O FARA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le era considerado um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us viv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filho do Sol (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mon-Rá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) e encarnação do deus-falcão (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Hórus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). Para os egípcios, toda a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licidade dependia do faraó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 seu poder era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limitad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mandava os exércitos, distribuía a justiça, organizava as atividades econômicas.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faraó ostentava um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ro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e um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etr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símbolos de sua autoridade. Para os povos do Egito Antigo, o faraó era o pai e a mãe dos seres humanos; um governante com autoridade sobrenatural para recrutar o trabalho em massa necessário à manutenção do sistema de irrigação ao longo do Nilo. Além do poder e prestígio, o faraó possuía enorme riqueza.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Era considerado o dono de todas as terras do Egito.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Por isso, tinha o direito de receber impostos (pagos em produtos) das aldeias.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sotw9_temp0"/>
          <p:cNvPicPr/>
          <p:nvPr/>
        </p:nvPicPr>
        <p:blipFill>
          <a:blip r:embed="rId2"/>
          <a:stretch/>
        </p:blipFill>
        <p:spPr>
          <a:xfrm>
            <a:off x="380880" y="304920"/>
            <a:ext cx="8534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33"/>
                </a:solidFill>
                <a:latin typeface="Comic Sans MS"/>
              </a:rPr>
              <a:t>.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O VIZIR =</a:t>
            </a:r>
            <a:r>
              <a:rPr b="1" lang="pt-BR" sz="28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A maior autoridade depois do faraó. Cabia a ele tomar decisões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 jurídicas, administrativas e financeiras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em nome do fara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. OS NOBRES=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escendentes das famílias mais importantes dos antigos nomos cuidavam da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dministração das províncias ou ocupavam os postos mais altos do exérc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. OS SACERDOTES:-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etinham muito poder,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dministravam todos os bens que os fiéis e o próprio Estado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fereciam aos deuses e tinham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uita influência junto ao faraó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 Enriqueciam porque ficavam com parte das oferendas feitas pela população aos deuses, além de serem dispensados do pagamento de impostos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33"/>
                </a:solidFill>
                <a:latin typeface="Comic Sans MS"/>
              </a:rPr>
              <a:t>OS ESCRIBAS = </a:t>
            </a:r>
            <a:r>
              <a:rPr b="1" lang="pt-BR" sz="2800" spc="-1" strike="noStrike">
                <a:solidFill>
                  <a:srgbClr val="008000"/>
                </a:solidFill>
                <a:latin typeface="Comic Sans MS"/>
              </a:rPr>
              <a:t>os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que dominavam a difícil escrita egípcia, encarregavam-se da cobrança dos impostos, da organização das leis e dos decretos e da fiscalização da atividade econômica em g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msotw9_temp0"/>
          <p:cNvPicPr/>
          <p:nvPr/>
        </p:nvPicPr>
        <p:blipFill>
          <a:blip r:embed="rId2"/>
          <a:stretch/>
        </p:blipFill>
        <p:spPr>
          <a:xfrm>
            <a:off x="1447920" y="2209680"/>
            <a:ext cx="5867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0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0033"/>
                </a:solidFill>
                <a:latin typeface="Whimsy ICG Heavy"/>
              </a:rPr>
              <a:t>LOCALIZAÇÃO GEOGRÁ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Comic Sans MS"/>
              </a:rPr>
              <a:t>O Egito está situado no Nordeste da África em meio a dois imensos desertos : o da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</a:rPr>
              <a:t>Líbia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</a:rPr>
              <a:t> e o da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</a:rPr>
              <a:t>Aráb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Comic Sans MS"/>
              </a:rPr>
              <a:t>O Egito Antigo possuía um território estreito e comprido que compreendia duas grandes regiões: o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</a:rPr>
              <a:t>Alto Egito 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</a:rPr>
              <a:t>(região do vale) e o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</a:rPr>
              <a:t>Baixo Egito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</a:rPr>
              <a:t> região do Delta do Nil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  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O SOLDADOS:-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unca atingiam os postos de comando, </a:t>
            </a:r>
            <a:r>
              <a:rPr b="1" lang="pt-BR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pois estes eram reservados à nobreza.Eles viviam dos produtos recebidos como pagamento e dos </a:t>
            </a:r>
            <a:r>
              <a:rPr b="1" lang="pt-BR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ques</a:t>
            </a:r>
            <a:r>
              <a:rPr b="1" lang="pt-BR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que podiam realizar durante as guerras de conquist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 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OS ARTESÃOS:-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xerciam as mais diversas profissões. Trabalhavam como </a:t>
            </a:r>
            <a:r>
              <a:rPr b="1" lang="pt-BR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edreiros, carpinteiros, desenhistas, escultores, pintores, tecelões, ourives, etc. </a:t>
            </a:r>
            <a:r>
              <a:rPr b="1" lang="pt-BR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uitas de suas atividades eram realizadas nas grandes obras públicas (templos, túmulos, palácios, etc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714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OS CAMPONESES =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chamados no Egito de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</a:rPr>
              <a:t>felás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,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constituíam a imensa maioria da população.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rabalhavam nas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priedades do faraó e dos sacerdotes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 tinham o direito de conservar para si apenas uma pequena parte dos produtos colhidos. Eram também obrigados a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rabalhar na construção de obras públicas grandiosas, como abertura de estradas, limpeza de canais, transportes de pedras necessárias às grandes obras, como túmulos, templos e palá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msotw9_temp0"/>
          <p:cNvPicPr/>
          <p:nvPr/>
        </p:nvPicPr>
        <p:blipFill>
          <a:blip r:embed="rId2"/>
          <a:stretch/>
        </p:blipFill>
        <p:spPr>
          <a:xfrm>
            <a:off x="1523880" y="3352680"/>
            <a:ext cx="6096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33"/>
                </a:solidFill>
                <a:latin typeface="Comic Sans MS"/>
              </a:rPr>
              <a:t>OS ESCRAVOS = </a:t>
            </a:r>
            <a:r>
              <a:rPr b="1" lang="pt-BR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eralmente estrangeiros e prisioneiros de guerra,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ambém compunham a base da sociedade.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Trabalhavam, principalmente, nas minas e pedreiras do Estado, nas terras reais e nos templos.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uitas vezes faziam parte do exército em época de guerra e eram utilizados como escravos domésticos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msotw9_temp0"/>
          <p:cNvPicPr/>
          <p:nvPr/>
        </p:nvPicPr>
        <p:blipFill>
          <a:blip r:embed="rId2"/>
          <a:stretch/>
        </p:blipFill>
        <p:spPr>
          <a:xfrm>
            <a:off x="533520" y="297180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0033"/>
                </a:solidFill>
                <a:latin typeface="Whimsy ICG Heavy"/>
              </a:rPr>
              <a:t>ORGANIZAÇÃO ECONÔ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 agricultura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era a base da economia egípcia e, como já vimos, dependia das águas do Nilo.O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 trigo, a cevada, os legumes e as uvas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constituíam as principais cult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msotw9_temp0"/>
          <p:cNvPicPr/>
          <p:nvPr/>
        </p:nvPicPr>
        <p:blipFill>
          <a:blip r:embed="rId2"/>
          <a:stretch/>
        </p:blipFill>
        <p:spPr>
          <a:xfrm>
            <a:off x="380880" y="2819520"/>
            <a:ext cx="8153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s egípcios dedicavam-se também à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ação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de bois, asnos, patos e cabritos. Além disso, praticavam também a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ineração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de ouro, pedras preciosas e cobre, este último muito usado nas trocas comerciais com outros povos.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mércio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era feito à base de trocas, mas limitava-se ao pequeno comércio e à permutação de artigos de luxo com o exterior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msotw9_temp0"/>
          <p:cNvPicPr/>
          <p:nvPr/>
        </p:nvPicPr>
        <p:blipFill>
          <a:blip r:embed="rId2"/>
          <a:stretch/>
        </p:blipFill>
        <p:spPr>
          <a:xfrm>
            <a:off x="1066680" y="2438280"/>
            <a:ext cx="701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05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rtesanat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do Egito era conhecido no mundo antigo. Com a madeira, o cobre, o ouro, o marfim, o couro, o papiro, o bronze, seus artesãos produziam móveis, brinquedos, jóias, tecidos, barcos, armas, tijolos e uma variedade de outros objetos.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msotw9_temp0"/>
          <p:cNvPicPr/>
          <p:nvPr/>
        </p:nvPicPr>
        <p:blipFill>
          <a:blip r:embed="rId2"/>
          <a:stretch/>
        </p:blipFill>
        <p:spPr>
          <a:xfrm>
            <a:off x="1143000" y="2857680"/>
            <a:ext cx="701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990033"/>
                </a:solidFill>
                <a:latin typeface="Whimsy ICG Heavy"/>
              </a:rPr>
              <a:t>A ESCRITA EGÍPC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A escrita surgiu no Egito por volta de 3000 a .C.Os caracteres que os egípcios usavam para escrever eram chamados de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hieróglifos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, usados geralmente em inscrições oficiais e sagradas gravadas em ped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msotw9_temp0"/>
          <p:cNvPicPr/>
          <p:nvPr/>
        </p:nvPicPr>
        <p:blipFill>
          <a:blip r:embed="rId2"/>
          <a:stretch/>
        </p:blipFill>
        <p:spPr>
          <a:xfrm>
            <a:off x="1066680" y="3429000"/>
            <a:ext cx="6858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0769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Os egípcios desenvolveram também uma forma simplificada dessa escrita hieroglífica chamada escrita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</a:rPr>
              <a:t>hierática (escrita dos deuses)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, utilizada principalmente pelos sacerdotes sobre madeira ou papi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msotw9_temp0"/>
          <p:cNvPicPr/>
          <p:nvPr/>
        </p:nvPicPr>
        <p:blipFill>
          <a:blip r:embed="rId2"/>
          <a:stretch/>
        </p:blipFill>
        <p:spPr>
          <a:xfrm>
            <a:off x="762120" y="1600200"/>
            <a:ext cx="7696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Havia ainda a escrita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</a:rPr>
              <a:t>demótica (escrita do povo)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, mais popular, que era uma simplificação da hierática, geralmente usada em cartas e registros sobre papi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Eles usavam tinta feita de fuligem e algumas vezes decoravam suas escritas com tinta vermel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demotica"/>
          <p:cNvPicPr/>
          <p:nvPr/>
        </p:nvPicPr>
        <p:blipFill>
          <a:blip r:embed="rId2"/>
          <a:stretch/>
        </p:blipFill>
        <p:spPr>
          <a:xfrm>
            <a:off x="1066680" y="213372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990033"/>
                </a:solidFill>
                <a:latin typeface="Whimsy ICG Heavy"/>
              </a:rPr>
              <a:t>RELIGI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msotw9_temp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7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990033"/>
                </a:solidFill>
                <a:latin typeface="Whimsy ICG Heavy"/>
              </a:rPr>
              <a:t>EGITO,dádiva do NIL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38120" y="114264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O Nilo corta o Egito de sul a norte e deságua no mar Mediterrân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Anualmente, de junho a setembro, o Nilo transborda e rega a terra, tornando-a favorável à agricultura.A partir de outubro, inicia-se o período de semeadura, que se prolonga até mais ou menos fevereiro.A colheita ocorre de abril a ju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msotw9_temp0"/>
          <p:cNvPicPr/>
          <p:nvPr/>
        </p:nvPicPr>
        <p:blipFill>
          <a:blip r:embed="rId2"/>
          <a:stretch/>
        </p:blipFill>
        <p:spPr>
          <a:xfrm>
            <a:off x="304920" y="1143000"/>
            <a:ext cx="3733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msotw9_temp0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sotw9_temp0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0033"/>
                </a:solidFill>
                <a:latin typeface="Whimsy ICG Heavy"/>
                <a:ea typeface="Times New Roman"/>
              </a:rPr>
              <a:t>FORMAÇÃO DO ESTADO NO EGITO ANTIGO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33"/>
                </a:solidFill>
                <a:latin typeface="Comic Sans MS"/>
              </a:rPr>
              <a:t>Nomos = 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onjuntos de aldeias governadas pelos </a:t>
            </a:r>
            <a:r>
              <a:rPr b="1" lang="pt-BR" sz="3200" spc="-1" strike="noStrike" u="sng">
                <a:solidFill>
                  <a:srgbClr val="008000"/>
                </a:solidFill>
                <a:uFillTx/>
                <a:latin typeface="Comic Sans MS"/>
                <a:ea typeface="Times New Roman"/>
              </a:rPr>
              <a:t>nomarcas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nome dado aos chefes mais poderos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msotw9_temp0"/>
          <p:cNvPicPr/>
          <p:nvPr/>
        </p:nvPicPr>
        <p:blipFill>
          <a:blip r:embed="rId2"/>
          <a:stretch/>
        </p:blipFill>
        <p:spPr>
          <a:xfrm>
            <a:off x="304920" y="320040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om o tempo, as disputas entre os nomarcas por poder e terras geraram guerras e alianças entre eles. Alguns deles, ao vencerem os demais, tornavam-se reis, passando a controlar vários “nomos”. Surgiram então no Egito reinos que foram ficando cada vez maiores, até resumirem a dois : o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to Egit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(no vale do Nilo) e o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ix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git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(no Delta do Nilo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msotw9_temp0"/>
          <p:cNvPicPr/>
          <p:nvPr/>
        </p:nvPicPr>
        <p:blipFill>
          <a:blip r:embed="rId2"/>
          <a:stretch/>
        </p:blipFill>
        <p:spPr>
          <a:xfrm>
            <a:off x="2286000" y="32767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  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Por volta do ano 3200 a .C., o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i Menés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do Alto Egito (no vale do Nilo), </a:t>
            </a:r>
            <a:r>
              <a:rPr b="1" lang="pt-BR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nquistou o Baixo Egito 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(no delta do Nilo), unificando os dois rei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enés tornou-se então o primeiro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raó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(nome que se dava ao rei entre os egípcios) e o fundador da primeira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nastia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(sucessão de reis pertencentes a uma mesma família</a:t>
            </a:r>
            <a:r>
              <a:rPr b="1" lang="pt-BR" sz="36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0:23:17Z</dcterms:created>
  <dc:creator>Tereza</dc:creator>
  <dc:description/>
  <dc:language>en-US</dc:language>
  <cp:lastModifiedBy>Professor</cp:lastModifiedBy>
  <dcterms:modified xsi:type="dcterms:W3CDTF">2010-02-11T11:39:57Z</dcterms:modified>
  <cp:revision>22</cp:revision>
  <dc:subject/>
  <dc:title>O EGITO ANTIGO </dc:title>
</cp:coreProperties>
</file>